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1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B815-2A9D-460D-A9ED-E3FC80ACC5C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6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1EC6-0B01-4D42-8EEE-7095308A64F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674640" y="819000"/>
            <a:ext cx="5386320" cy="40420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72840" y="5119560"/>
            <a:ext cx="5391000" cy="48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6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E3E7-3F72-465E-93B1-72403AD2C18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674640" y="819000"/>
            <a:ext cx="5386320" cy="40420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2840" y="5119560"/>
            <a:ext cx="5391000" cy="48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688E-2C2B-4503-8F4F-3830AD11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989C-A68B-48C2-A99B-F52060E7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CBDB-40E5-4D42-8F16-FD66D29B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63C3-80FF-4F9C-B0D7-D2369C4B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4621-9565-4543-8E73-F3FEC03B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B791-C8FD-4873-988B-7C35E512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D58F-9F30-458D-A8B9-F0C7CA03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22A2-80EA-4692-AF05-1053ABF2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5211-BB9A-4213-A13E-504BD0F3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FD24-B923-4720-975A-AB6A2746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838B-1B9A-4488-BDAC-106BD8C5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300B-EA67-45A6-B5AF-26720FDF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40FD-FB55-41CB-B194-F58BA5BC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4FE0-D831-456E-B36F-3AF69A50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A4A0-E437-4C8D-BDEE-937B9EFD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4F58-5B37-4C57-A784-A58005A4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878F-E29C-40E2-8B98-A9CB2161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F8A8A-EB93-4A79-9AE0-5F121592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64929-1746-431E-9EAB-BEDF70CD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67F94-D723-4DF5-A6BD-FFD466FD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F8611-B211-40E7-AE3E-5FDA9905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45BEE-72FE-40C4-8B41-63874AE0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E39-2966-4484-AE7E-93D341DE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CC96C-B126-40FE-A0C0-4282CF06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D45AC-44EE-48BF-A742-90CFE1AF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F8622-B992-4281-B424-33580A98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1ED3C-94EB-4555-AADC-B4EEC4D0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AF2D1-15C8-4177-A428-1517CC1A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36476-DBC0-44CB-9E45-C7F9D86A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3202D-C02B-4D74-9A4B-4D36CCD4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B7F7B-3EC7-4262-B4F8-61348900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6B918-A192-41EC-99C7-6231770C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43134-477E-4862-B72B-E23CB717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9450-B38D-4B28-87AE-3E0C7F7D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A36EA-2B42-4502-8DCA-2BB3D0E0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ECA32-9A1C-4A99-8A14-C7BB9408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887BE-D276-4693-989F-A6096B45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39217-581E-4F91-8094-5C49924D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1157F-EBF4-4395-B4FB-4A8EFFA7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508D1-A1EF-417B-8F51-CB195301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29AA4-EF56-4CFA-9545-321A8020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1BE1C-276B-4AB9-9AE6-6976528D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81625-B37E-4F38-91B8-80AD47D7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F539D-273D-43ED-A8CE-0F967468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9962-2D91-4C08-9B65-E2EAA3DD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13E60-0D6F-442A-B412-EB338AFA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888F8-9A4F-4494-968F-BAA74454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AFB78-516D-4FAD-BE09-1D0DD0F4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DA557-8D08-4EB7-81C6-D0428ED8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5B321-0FA7-4F77-8568-0A96D223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BC853-39BD-4C6C-84BB-0286028F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D417B-3937-4864-AB6F-EA1BC7BC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6C333-36CB-4150-A0FE-9FC92668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A9355-7900-446E-B8FE-A95C0E01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5992D-D3E9-42C7-998C-B79802EF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C5E1-0BE0-4CA0-97CA-7DA15C14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9B2D0-B3CA-4D4F-83CF-08116157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A05DA-232A-4AAC-8362-7F2F576D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120BB-8D47-4182-89B8-5FFE9862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123A6-6EFE-4B5B-93E1-749B27BE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DAAE4-C5E2-43C8-8344-63EFD297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5B80E-932A-4791-A67F-8C223A1E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E1080-7EB6-4347-B680-10FDC187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9EE6D-3762-4BDC-803F-C0DD818C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163B4-8E2D-41C6-8257-F21AB34C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53105-E811-414E-8CB7-11E622F9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1136-5CED-4788-B99A-267EB5BB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3205D-BD4F-41E1-BF7F-8A580F67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90FAF-C047-420E-B035-E289103D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AE4E4-DAA1-4964-9425-5E835B5A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96A4B-AF83-423B-AA13-1911A4BC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FFD04-8B31-4977-809B-F7CA84DB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C0ABB-F118-46AE-BF50-C4A971FC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6476D-819D-4BFF-AA43-51F94F5E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822EC-D738-41AB-A988-EA9D7310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01E51-C2F6-41AC-AA06-3A09FD3F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E8B95-458C-459C-92EA-CBCA0357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C7E6-60A8-4DD8-AC50-75D53DB9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B8932-4B44-4CD0-8530-0D3A486C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409E4-B309-4FF8-A654-21C3DA16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C5398-EC37-4084-A5C0-30A0EA4B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4A6F5-4601-421B-8BC9-0505DF29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9EABF-8B25-4638-BD9E-608BC178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C4FD-5794-4680-A2BD-3739A25E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9831-9534-4BB7-A274-1963B49A59D0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6381-248A-4DF7-997C-CF40E34AB70C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C393-ADEC-44A2-9B33-BFF9D51CE66A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9B94-24B3-4634-BC1B-EC826C08B56B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BDD3-AE8E-45B5-B3C8-DF926D15CA4B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D618-9EAB-482C-9E5E-86000D1A8CC1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E2C5-FA55-4591-B0E2-67F6766E39B7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oscross.eu/hr/pocetna/" TargetMode="External"/><Relationship Id="rId2" Type="http://schemas.openxmlformats.org/officeDocument/2006/relationships/hyperlink" Target="https://megaupload.nz/ReL0W7r0bc/FILM_KOMARCI_HRVATSKI_HD_1080p_mp4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36080" cy="1444680"/>
          </a:xfrm>
          <a:prstGeom prst="rect">
            <a:avLst/>
          </a:prstGeom>
          <a:ln w="0">
            <a:noFill/>
          </a:ln>
        </p:spPr>
      </p:pic>
      <p:pic>
        <p:nvPicPr>
          <p:cNvPr id="343" name="Slika 3" descr=""/>
          <p:cNvPicPr/>
          <p:nvPr/>
        </p:nvPicPr>
        <p:blipFill>
          <a:blip r:embed="rId2"/>
          <a:stretch/>
        </p:blipFill>
        <p:spPr>
          <a:xfrm>
            <a:off x="4040280" y="203040"/>
            <a:ext cx="4897440" cy="1084320"/>
          </a:xfrm>
          <a:prstGeom prst="rect">
            <a:avLst/>
          </a:prstGeom>
          <a:ln w="38160">
            <a:solidFill>
              <a:srgbClr val="0293e0"/>
            </a:solidFill>
            <a:miter/>
          </a:ln>
        </p:spPr>
      </p:pic>
      <p:sp>
        <p:nvSpPr>
          <p:cNvPr id="344" name="TekstniOkvir 4"/>
          <p:cNvSpPr/>
          <p:nvPr/>
        </p:nvSpPr>
        <p:spPr>
          <a:xfrm>
            <a:off x="243000" y="2935440"/>
            <a:ext cx="86407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ndara"/>
              </a:rPr>
              <a:t>Predstavljanje projekta Kontrola komaraca u prekograničnom području (MOS-Cross) i smjernica za prevenciju bolesti koje prenose komarci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5" name="TekstniOkvir 5"/>
          <p:cNvSpPr/>
          <p:nvPr/>
        </p:nvSpPr>
        <p:spPr>
          <a:xfrm>
            <a:off x="260280" y="6032520"/>
            <a:ext cx="395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Magdalena Sikora,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profesor biologije i kemije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6" name="TekstniOkvir 8"/>
          <p:cNvSpPr/>
          <p:nvPr/>
        </p:nvSpPr>
        <p:spPr>
          <a:xfrm>
            <a:off x="5580000" y="6310440"/>
            <a:ext cx="33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Osijek, 27. svibnja 2019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Javna događanj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1. Sajam antikvitet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1. 9. 2018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Educirano 1500 građan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Rezervirano mjesto podnožja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3" name="Rezervirano mjesto broja slajda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9065-E929-4AD9-9085-1C9881BD3435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84" name="Slika 7" descr=""/>
          <p:cNvPicPr/>
          <p:nvPr/>
        </p:nvPicPr>
        <p:blipFill>
          <a:blip r:embed="rId1"/>
          <a:stretch/>
        </p:blipFill>
        <p:spPr>
          <a:xfrm>
            <a:off x="4500720" y="3141720"/>
            <a:ext cx="2185920" cy="2914560"/>
          </a:xfrm>
          <a:prstGeom prst="rect">
            <a:avLst/>
          </a:prstGeom>
          <a:ln w="0">
            <a:noFill/>
          </a:ln>
        </p:spPr>
      </p:pic>
      <p:pic>
        <p:nvPicPr>
          <p:cNvPr id="385" name="Slika 8" descr=""/>
          <p:cNvPicPr/>
          <p:nvPr/>
        </p:nvPicPr>
        <p:blipFill>
          <a:blip r:embed="rId2"/>
          <a:stretch/>
        </p:blipFill>
        <p:spPr>
          <a:xfrm>
            <a:off x="5435640" y="1341360"/>
            <a:ext cx="3441600" cy="1935360"/>
          </a:xfrm>
          <a:prstGeom prst="rect">
            <a:avLst/>
          </a:prstGeom>
          <a:ln w="0">
            <a:noFill/>
          </a:ln>
        </p:spPr>
      </p:pic>
      <p:pic>
        <p:nvPicPr>
          <p:cNvPr id="386" name="Slika 9" descr=""/>
          <p:cNvPicPr/>
          <p:nvPr/>
        </p:nvPicPr>
        <p:blipFill>
          <a:blip r:embed="rId3"/>
          <a:stretch/>
        </p:blipFill>
        <p:spPr>
          <a:xfrm>
            <a:off x="7020000" y="4076640"/>
            <a:ext cx="1736640" cy="23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Javna događanj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07960" y="1413000"/>
            <a:ext cx="393552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73e87"/>
                </a:solidFill>
                <a:latin typeface="Candara"/>
              </a:rPr>
              <a:t>Educiranje građana </a:t>
            </a:r>
            <a:r>
              <a:rPr b="0" lang="hr-HR" sz="2200" spc="-1" strike="noStrike">
                <a:solidFill>
                  <a:srgbClr val="073e87"/>
                </a:solidFill>
                <a:latin typeface="Candara"/>
              </a:rPr>
              <a:t>(76 500 putem medija, 19 500 na ljetnim događanjima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73e87"/>
                </a:solidFill>
                <a:latin typeface="Candara"/>
              </a:rPr>
              <a:t>Obilježavanje Međunarodnog dana rijeke Drave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73e87"/>
                </a:solidFill>
                <a:latin typeface="Candara"/>
              </a:rPr>
              <a:t>Konferencija - 20. 9. 2018. – </a:t>
            </a:r>
            <a:r>
              <a:rPr b="1" lang="hr-HR" sz="2200" spc="-1" strike="noStrike" u="sng">
                <a:solidFill>
                  <a:srgbClr val="073e87"/>
                </a:solidFill>
                <a:uFillTx/>
                <a:latin typeface="Candara"/>
              </a:rPr>
              <a:t>predstavnici nacionalne, regionalne i lokalne samouprave (70 sudionika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73e87"/>
                </a:solidFill>
                <a:latin typeface="Candara"/>
              </a:rPr>
              <a:t>održana prezentacija MOS-Cros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73e87"/>
                </a:solidFill>
                <a:latin typeface="Candara"/>
              </a:rPr>
              <a:t>distribucija letaka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73e87"/>
                </a:solidFill>
                <a:latin typeface="Candara"/>
              </a:rPr>
              <a:t>predstavnici medija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9" name="Rezervirano mjesto podnožja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0" name="Rezervirano mjesto broja slajda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9132-A72E-453E-B3C3-01F6D1A0FC83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91" name="Slika 6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4211640" cy="2806920"/>
          </a:xfrm>
          <a:prstGeom prst="rect">
            <a:avLst/>
          </a:prstGeom>
          <a:ln w="0">
            <a:noFill/>
          </a:ln>
        </p:spPr>
      </p:pic>
      <p:pic>
        <p:nvPicPr>
          <p:cNvPr id="392" name="Slika 8" descr=""/>
          <p:cNvPicPr/>
          <p:nvPr/>
        </p:nvPicPr>
        <p:blipFill>
          <a:blip r:embed="rId2"/>
          <a:stretch/>
        </p:blipFill>
        <p:spPr>
          <a:xfrm>
            <a:off x="6948360" y="4581360"/>
            <a:ext cx="153540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Candara"/>
              </a:rPr>
              <a:t>Obilježavanje Međunarodnog dana rijeke Drave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22. 9. 2018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educirano 1000 građan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Rezervirano mjesto datuma 3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6" name="Rezervirano mjesto podnožja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7" name="Rezervirano mjesto broja slajda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D39A-7237-445C-B21C-7B46C054AA2E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98" name="Slika 6" descr=""/>
          <p:cNvPicPr/>
          <p:nvPr/>
        </p:nvPicPr>
        <p:blipFill>
          <a:blip r:embed="rId1"/>
          <a:stretch/>
        </p:blipFill>
        <p:spPr>
          <a:xfrm>
            <a:off x="6411960" y="1986120"/>
            <a:ext cx="2374920" cy="3620880"/>
          </a:xfrm>
          <a:prstGeom prst="rect">
            <a:avLst/>
          </a:prstGeom>
          <a:ln w="0">
            <a:noFill/>
          </a:ln>
        </p:spPr>
      </p:pic>
      <p:pic>
        <p:nvPicPr>
          <p:cNvPr id="399" name="Slika 7" descr=""/>
          <p:cNvPicPr/>
          <p:nvPr/>
        </p:nvPicPr>
        <p:blipFill>
          <a:blip r:embed="rId2"/>
          <a:stretch/>
        </p:blipFill>
        <p:spPr>
          <a:xfrm>
            <a:off x="2124000" y="3789360"/>
            <a:ext cx="384660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21. Osječki jesenski sajam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07600" y="2477880"/>
            <a:ext cx="29718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Trodnevno događanj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5. - 7. 10. 2018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Educirano </a:t>
            </a:r>
            <a:r>
              <a:rPr b="0" lang="hr-HR" sz="2400" spc="-1" strike="noStrike">
                <a:solidFill>
                  <a:srgbClr val="ff0000"/>
                </a:solidFill>
                <a:latin typeface="Candara"/>
              </a:rPr>
              <a:t>17 000 građan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Rezervirano mjesto podnožja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3" name="Rezervirano mjesto broja slajda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ECDB-2588-498E-AA6A-268C570D8D5E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04" name="Slika 6" descr=""/>
          <p:cNvPicPr/>
          <p:nvPr/>
        </p:nvPicPr>
        <p:blipFill>
          <a:blip r:embed="rId1"/>
          <a:stretch/>
        </p:blipFill>
        <p:spPr>
          <a:xfrm>
            <a:off x="6985080" y="857160"/>
            <a:ext cx="2158920" cy="2879640"/>
          </a:xfrm>
          <a:prstGeom prst="rect">
            <a:avLst/>
          </a:prstGeom>
          <a:ln w="0">
            <a:noFill/>
          </a:ln>
        </p:spPr>
      </p:pic>
      <p:pic>
        <p:nvPicPr>
          <p:cNvPr id="405" name="Slika 7" descr=""/>
          <p:cNvPicPr/>
          <p:nvPr/>
        </p:nvPicPr>
        <p:blipFill>
          <a:blip r:embed="rId2"/>
          <a:stretch/>
        </p:blipFill>
        <p:spPr>
          <a:xfrm>
            <a:off x="4851360" y="1414440"/>
            <a:ext cx="1860480" cy="3308400"/>
          </a:xfrm>
          <a:prstGeom prst="rect">
            <a:avLst/>
          </a:prstGeom>
          <a:ln w="0">
            <a:noFill/>
          </a:ln>
        </p:spPr>
      </p:pic>
      <p:pic>
        <p:nvPicPr>
          <p:cNvPr id="406" name="Slika 8" descr=""/>
          <p:cNvPicPr/>
          <p:nvPr/>
        </p:nvPicPr>
        <p:blipFill>
          <a:blip r:embed="rId3"/>
          <a:stretch/>
        </p:blipFill>
        <p:spPr>
          <a:xfrm>
            <a:off x="7157880" y="3394080"/>
            <a:ext cx="1382760" cy="24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FILM KOMARCI_HRVATSKI_HD_1080p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80440" cy="471348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Izrađen </a:t>
            </a:r>
            <a:r>
              <a:rPr b="1" lang="hr-HR" sz="1900" spc="-1" strike="noStrike">
                <a:solidFill>
                  <a:srgbClr val="073e87"/>
                </a:solidFill>
                <a:latin typeface="Candara"/>
              </a:rPr>
              <a:t>edukacijski video </a:t>
            </a: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1000" y="333000"/>
            <a:ext cx="88664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Candara"/>
              </a:rPr>
              <a:t>Suzbijanje komaraca u prekograničnom području</a:t>
            </a:r>
            <a:br>
              <a:rPr sz="3300"/>
            </a:br>
            <a:r>
              <a:rPr b="0" lang="hr-HR" sz="3300" spc="-1" strike="noStrike">
                <a:solidFill>
                  <a:srgbClr val="ffffff"/>
                </a:solidFill>
                <a:latin typeface="Candara"/>
              </a:rPr>
              <a:t>MOS-Cross2</a:t>
            </a:r>
            <a:br>
              <a:rPr sz="3300"/>
            </a:br>
            <a:r>
              <a:rPr b="0" lang="hr-HR" sz="3300" spc="-1" strike="noStrike">
                <a:solidFill>
                  <a:srgbClr val="ffffff"/>
                </a:solidFill>
                <a:latin typeface="Candara"/>
              </a:rPr>
              <a:t>1. ožujka 2019. </a:t>
            </a:r>
            <a:r>
              <a:rPr b="0" lang="hr-HR" sz="3300" spc="-1" strike="noStrike">
                <a:solidFill>
                  <a:srgbClr val="ffffff"/>
                </a:solidFill>
                <a:latin typeface="Candara"/>
                <a:ea typeface="MS Mincho"/>
              </a:rPr>
              <a:t>– 28. veljače 2021.</a:t>
            </a:r>
            <a:endParaRPr b="0" lang="en-US" sz="3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76080" y="2679480"/>
            <a:ext cx="78562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Projektni partneri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2440" indent="-3430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Zavod za javno zdravstvo Osječko-baranjske župani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622440" indent="-3430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Zavod za javno zdravlje Sombor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622440" indent="-3430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Zavod za javno zdravstvo Brodsko-posavske župani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622440" indent="-3430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Fond „Evropski poslovi“ Autonomne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pokrajine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Vojvodin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622440" indent="-3430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Zavod za javno zdravlje Sremska Mitrovic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62244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Vrijednost projekta 990 273,20 EUR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Proračun ZZJZ-a 255 912,10 EUR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1" name="Slika 2" descr=""/>
          <p:cNvPicPr/>
          <p:nvPr/>
        </p:nvPicPr>
        <p:blipFill>
          <a:blip r:embed="rId1"/>
          <a:stretch/>
        </p:blipFill>
        <p:spPr>
          <a:xfrm>
            <a:off x="6732720" y="6296040"/>
            <a:ext cx="24112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Planirani rezultati projekt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50920" y="1988640"/>
            <a:ext cx="8642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mapiranje legala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 u BPŽ-u i Vojvodini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lvl="1" marL="564480" indent="-26748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BPŽ: 70 000 stanovnika, Vojvodina 150 000 stanovnika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proširenje mape 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iz projekta MOS-Cross (područje i opseg)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ažuriran </a:t>
            </a: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ICT alat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izrada</a:t>
            </a: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 aplikacije za mobitele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uzorkovanje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 na prisutnost patogena i invazivnih vrsta komaraca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ažuriranje protokola novim patogenima 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(denga, chikungunya, malarija) i invazivnim vrstama komaraca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ažuriran </a:t>
            </a: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zajednički protokol za spremnost u slučaju izbijanja epidemija 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bolesti koje prenose komarci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educiranje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 osnovnoškolske </a:t>
            </a:r>
            <a:r>
              <a:rPr b="1" lang="pl-PL" sz="1800" spc="-1" strike="noStrike">
                <a:solidFill>
                  <a:srgbClr val="073e87"/>
                </a:solidFill>
                <a:latin typeface="Candara"/>
              </a:rPr>
              <a:t>djece i štićenika domova </a:t>
            </a: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za stare i nemoćne te članova </a:t>
            </a:r>
            <a:r>
              <a:rPr b="1" lang="pl-PL" sz="1800" spc="-1" strike="noStrike">
                <a:solidFill>
                  <a:srgbClr val="073e87"/>
                </a:solidFill>
                <a:latin typeface="Candara"/>
              </a:rPr>
              <a:t>umirovljeničkih udruga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preporuke za predstavnike JLS-a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 u BPŽ-u i Vojvodini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podjela ovipozicijskih klopki stanovništvu 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(1000 kućanstava)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trening javnozdravstvenih djelatnika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svjetleće ploče za suzbijanje komaraca 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(10 u Osijeku)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4" name="Slika 3" descr=""/>
          <p:cNvPicPr/>
          <p:nvPr/>
        </p:nvPicPr>
        <p:blipFill>
          <a:blip r:embed="rId1"/>
          <a:stretch/>
        </p:blipFill>
        <p:spPr>
          <a:xfrm>
            <a:off x="6656400" y="6313320"/>
            <a:ext cx="24876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8480" y="150840"/>
            <a:ext cx="8227800" cy="11462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300"/>
            </a:b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840880" cy="53737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2658960" y="220680"/>
            <a:ext cx="3429000" cy="674640"/>
          </a:xfrm>
          <a:prstGeom prst="rect">
            <a:avLst/>
          </a:prstGeom>
          <a:ln w="0">
            <a:noFill/>
          </a:ln>
        </p:spPr>
      </p:pic>
      <p:sp>
        <p:nvSpPr>
          <p:cNvPr id="418" name="TextBox 1"/>
          <p:cNvSpPr/>
          <p:nvPr/>
        </p:nvSpPr>
        <p:spPr>
          <a:xfrm>
            <a:off x="-71640" y="903240"/>
            <a:ext cx="91569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100" spc="-1" strike="noStrike">
                <a:solidFill>
                  <a:srgbClr val="ffffff"/>
                </a:solidFill>
                <a:latin typeface="Candara"/>
              </a:rPr>
              <a:t>Interreg IPA Program prekogranične suradnje Hrvatska-Srbija 2014.</a:t>
            </a:r>
            <a:r>
              <a:rPr b="0" lang="hr-HR" sz="2100" spc="-1" strike="noStrike">
                <a:solidFill>
                  <a:srgbClr val="ffffff"/>
                </a:solidFill>
                <a:latin typeface="Candara"/>
              </a:rPr>
              <a:t> – </a:t>
            </a:r>
            <a:r>
              <a:rPr b="0" i="1" lang="sr-Latn-RS" sz="2100" spc="-1" strike="noStrike">
                <a:solidFill>
                  <a:srgbClr val="ffffff"/>
                </a:solidFill>
                <a:latin typeface="Candara"/>
              </a:rPr>
              <a:t>2020.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9" name="Elipsa 1"/>
          <p:cNvSpPr/>
          <p:nvPr/>
        </p:nvSpPr>
        <p:spPr>
          <a:xfrm>
            <a:off x="3276720" y="2852640"/>
            <a:ext cx="1726920" cy="6476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0" name="Elipsa 6"/>
          <p:cNvSpPr/>
          <p:nvPr/>
        </p:nvSpPr>
        <p:spPr>
          <a:xfrm>
            <a:off x="5364000" y="2421000"/>
            <a:ext cx="936720" cy="720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1" name="Elipsa 7"/>
          <p:cNvSpPr/>
          <p:nvPr/>
        </p:nvSpPr>
        <p:spPr>
          <a:xfrm>
            <a:off x="6372360" y="3068640"/>
            <a:ext cx="1079280" cy="8650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2" name="Elipsa 8"/>
          <p:cNvSpPr/>
          <p:nvPr/>
        </p:nvSpPr>
        <p:spPr>
          <a:xfrm>
            <a:off x="1795320" y="3689280"/>
            <a:ext cx="2416320" cy="460440"/>
          </a:xfrm>
          <a:prstGeom prst="ellipse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3" name="Elipsa 9"/>
          <p:cNvSpPr/>
          <p:nvPr/>
        </p:nvSpPr>
        <p:spPr>
          <a:xfrm>
            <a:off x="6443640" y="4005360"/>
            <a:ext cx="1152720" cy="576000"/>
          </a:xfrm>
          <a:prstGeom prst="ellipse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Slika 5" descr=""/>
          <p:cNvPicPr/>
          <p:nvPr/>
        </p:nvPicPr>
        <p:blipFill>
          <a:blip r:embed="rId1"/>
          <a:stretch/>
        </p:blipFill>
        <p:spPr>
          <a:xfrm>
            <a:off x="5364000" y="4032360"/>
            <a:ext cx="3495960" cy="2824200"/>
          </a:xfrm>
          <a:prstGeom prst="rect">
            <a:avLst/>
          </a:prstGeom>
          <a:ln w="0">
            <a:noFill/>
          </a:ln>
        </p:spPr>
      </p:pic>
      <p:pic>
        <p:nvPicPr>
          <p:cNvPr id="425" name="Slika 6" descr=""/>
          <p:cNvPicPr/>
          <p:nvPr/>
        </p:nvPicPr>
        <p:blipFill>
          <a:blip r:embed="rId2"/>
          <a:srcRect l="41009" t="0" r="31432" b="0"/>
          <a:stretch/>
        </p:blipFill>
        <p:spPr>
          <a:xfrm>
            <a:off x="179280" y="189000"/>
            <a:ext cx="3178440" cy="6480000"/>
          </a:xfrm>
          <a:prstGeom prst="rect">
            <a:avLst/>
          </a:prstGeom>
          <a:ln w="0">
            <a:noFill/>
          </a:ln>
        </p:spPr>
      </p:pic>
      <p:pic>
        <p:nvPicPr>
          <p:cNvPr id="426" name="Slika 1" descr=""/>
          <p:cNvPicPr/>
          <p:nvPr/>
        </p:nvPicPr>
        <p:blipFill>
          <a:blip r:embed="rId3"/>
          <a:stretch/>
        </p:blipFill>
        <p:spPr>
          <a:xfrm>
            <a:off x="6168960" y="0"/>
            <a:ext cx="2975040" cy="692280"/>
          </a:xfrm>
          <a:prstGeom prst="rect">
            <a:avLst/>
          </a:prstGeom>
          <a:ln w="0">
            <a:noFill/>
          </a:ln>
        </p:spPr>
      </p:pic>
      <p:sp>
        <p:nvSpPr>
          <p:cNvPr id="427" name="Pravokutnik 2"/>
          <p:cNvSpPr/>
          <p:nvPr/>
        </p:nvSpPr>
        <p:spPr>
          <a:xfrm>
            <a:off x="3635280" y="620640"/>
            <a:ext cx="496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Uređaj emitira u okoliš smjesu koja sadrži mliječnu kiselinu i CO₂  te na taj način privlači komarce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Kombinacijom dvaju atraktanata privlači komarce, a flourescentno svijetlo poboljšava privlačenje komaraca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Jednom privučeni, komarci ostaju zarobljeni unutar ploče i na kraju ugibaju od dehidracije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Reklame se postavljaju na pažljivo birana mjesta gdje se ljudi ne zadržavaju kako ne bi dobili kontra efekt – 10 lokacija/partneru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Mosquito killer billboard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76080" y="2679480"/>
            <a:ext cx="80722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https://www.youtube.com/watch?v=M1kpjGeimdk&amp;t=11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30" name="M1kpjGeimdk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6806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Slika 5" descr=""/>
          <p:cNvPicPr/>
          <p:nvPr/>
        </p:nvPicPr>
        <p:blipFill>
          <a:blip r:embed="rId1"/>
          <a:stretch/>
        </p:blipFill>
        <p:spPr>
          <a:xfrm>
            <a:off x="5148360" y="4505400"/>
            <a:ext cx="2981160" cy="2236680"/>
          </a:xfrm>
          <a:prstGeom prst="rect">
            <a:avLst/>
          </a:prstGeom>
          <a:ln w="38160">
            <a:solidFill>
              <a:srgbClr val="0293e0"/>
            </a:solidFill>
            <a:miter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920" y="587520"/>
            <a:ext cx="8642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Komarc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55640" y="1628640"/>
            <a:ext cx="4896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u RH prisutno 50-ak vrsta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U OBŽ – 20-ak vrsta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Najznačajniji vektor – </a:t>
            </a:r>
            <a:r>
              <a:rPr b="0" i="1" lang="hr-HR" sz="1900" spc="-1" strike="noStrike">
                <a:solidFill>
                  <a:srgbClr val="073e87"/>
                </a:solidFill>
                <a:latin typeface="Candara"/>
              </a:rPr>
              <a:t>Culex pipiens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Najbronija vrsta</a:t>
            </a:r>
            <a:r>
              <a:rPr b="0" i="1" lang="hr-HR" sz="1900" spc="-1" strike="noStrike">
                <a:solidFill>
                  <a:srgbClr val="073e87"/>
                </a:solidFill>
                <a:latin typeface="Candara"/>
              </a:rPr>
              <a:t>: Aedes vexans (</a:t>
            </a: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više od 90%)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Invazivne vrste</a:t>
            </a:r>
            <a:r>
              <a:rPr b="0" i="1" lang="hr-HR" sz="1900" spc="-1" strike="noStrike">
                <a:solidFill>
                  <a:srgbClr val="073e87"/>
                </a:solidFill>
                <a:latin typeface="Candara"/>
              </a:rPr>
              <a:t>: Ae.albopictus; Ae. japonicus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komarci su osim molestanata i prijenosnici zaraznih bolesti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https://www.youtube.com/watch?v=rD8SmacBUcU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ne poznaju granice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lvl="2" marL="619920" indent="-3186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0" name="Rezervirano mjesto sadržaja 4" descr=""/>
          <p:cNvPicPr/>
          <p:nvPr/>
        </p:nvPicPr>
        <p:blipFill>
          <a:blip r:embed="rId2"/>
          <a:stretch/>
        </p:blipFill>
        <p:spPr>
          <a:xfrm>
            <a:off x="6262560" y="1736640"/>
            <a:ext cx="2630520" cy="2629080"/>
          </a:xfrm>
          <a:prstGeom prst="rect">
            <a:avLst/>
          </a:prstGeom>
          <a:ln w="38160">
            <a:solidFill>
              <a:srgbClr val="0293e0"/>
            </a:solidFill>
            <a:miter/>
          </a:ln>
        </p:spPr>
      </p:pic>
      <p:pic>
        <p:nvPicPr>
          <p:cNvPr id="351" name="Slika 3" descr=""/>
          <p:cNvPicPr/>
          <p:nvPr/>
        </p:nvPicPr>
        <p:blipFill>
          <a:blip r:embed="rId3"/>
          <a:stretch/>
        </p:blipFill>
        <p:spPr>
          <a:xfrm>
            <a:off x="0" y="6276960"/>
            <a:ext cx="24908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Hvala na pozornosti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5" name="Slika 1" descr=""/>
          <p:cNvPicPr/>
          <p:nvPr/>
        </p:nvPicPr>
        <p:blipFill>
          <a:blip r:embed="rId1"/>
          <a:stretch/>
        </p:blipFill>
        <p:spPr>
          <a:xfrm>
            <a:off x="3013200" y="3141720"/>
            <a:ext cx="3117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8480" y="150840"/>
            <a:ext cx="8227800" cy="11462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300"/>
            </a:b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840880" cy="5373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2658960" y="220680"/>
            <a:ext cx="3429000" cy="67464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"/>
          <p:cNvSpPr/>
          <p:nvPr/>
        </p:nvSpPr>
        <p:spPr>
          <a:xfrm>
            <a:off x="-71640" y="903240"/>
            <a:ext cx="91569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100" spc="-1" strike="noStrike">
                <a:solidFill>
                  <a:srgbClr val="ffffff"/>
                </a:solidFill>
                <a:latin typeface="Candara"/>
              </a:rPr>
              <a:t>Interreg IPA Program prekogranične suradnje Hrvatska-Srbija 2014.</a:t>
            </a:r>
            <a:r>
              <a:rPr b="0" lang="hr-HR" sz="2100" spc="-1" strike="noStrike">
                <a:solidFill>
                  <a:srgbClr val="ffffff"/>
                </a:solidFill>
                <a:latin typeface="Candara"/>
              </a:rPr>
              <a:t> – </a:t>
            </a:r>
            <a:r>
              <a:rPr b="0" i="1" lang="sr-Latn-RS" sz="2100" spc="-1" strike="noStrike">
                <a:solidFill>
                  <a:srgbClr val="ffffff"/>
                </a:solidFill>
                <a:latin typeface="Candara"/>
              </a:rPr>
              <a:t>2020.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1120" y="404640"/>
            <a:ext cx="885672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mbria"/>
                <a:ea typeface="MS Mincho"/>
              </a:rPr>
              <a:t>Suzbijanje komaraca u prekograničnom području</a:t>
            </a:r>
            <a:br>
              <a:rPr sz="3200"/>
            </a:br>
            <a:r>
              <a:rPr b="0" lang="hr-HR" sz="3200" spc="-1" strike="noStrike">
                <a:solidFill>
                  <a:srgbClr val="ffffff"/>
                </a:solidFill>
                <a:latin typeface="Cambria"/>
                <a:ea typeface="MS Mincho"/>
              </a:rPr>
              <a:t>15. srpnja 2017. – 14. listopada 2019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6046920" y="5632560"/>
            <a:ext cx="2712960" cy="534960"/>
          </a:xfrm>
          <a:prstGeom prst="rect">
            <a:avLst/>
          </a:prstGeom>
          <a:ln w="0">
            <a:noFill/>
          </a:ln>
        </p:spPr>
      </p:pic>
      <p:pic>
        <p:nvPicPr>
          <p:cNvPr id="358" name="Slika 22" descr=""/>
          <p:cNvPicPr/>
          <p:nvPr/>
        </p:nvPicPr>
        <p:blipFill>
          <a:blip r:embed="rId2"/>
          <a:stretch/>
        </p:blipFill>
        <p:spPr>
          <a:xfrm>
            <a:off x="534960" y="5516640"/>
            <a:ext cx="906480" cy="6634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9"/>
          <p:cNvSpPr/>
          <p:nvPr/>
        </p:nvSpPr>
        <p:spPr>
          <a:xfrm>
            <a:off x="1155600" y="5665680"/>
            <a:ext cx="900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800" spc="-1" strike="noStrike">
                <a:solidFill>
                  <a:srgbClr val="2862aa"/>
                </a:solidFill>
                <a:latin typeface="Candara"/>
              </a:rPr>
              <a:t>Zavod za javno zdravlje Sombor</a:t>
            </a:r>
            <a:endParaRPr b="0" lang="en-US" sz="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0" name="Slika 20" descr=""/>
          <p:cNvPicPr/>
          <p:nvPr/>
        </p:nvPicPr>
        <p:blipFill>
          <a:blip r:embed="rId3"/>
          <a:stretch/>
        </p:blipFill>
        <p:spPr>
          <a:xfrm>
            <a:off x="2274840" y="5472000"/>
            <a:ext cx="1579680" cy="708120"/>
          </a:xfrm>
          <a:prstGeom prst="rect">
            <a:avLst/>
          </a:prstGeom>
          <a:ln w="0">
            <a:noFill/>
          </a:ln>
        </p:spPr>
      </p:pic>
      <p:pic>
        <p:nvPicPr>
          <p:cNvPr id="361" name="Slika 25" descr=""/>
          <p:cNvPicPr/>
          <p:nvPr/>
        </p:nvPicPr>
        <p:blipFill>
          <a:blip r:embed="rId4"/>
          <a:stretch/>
        </p:blipFill>
        <p:spPr>
          <a:xfrm>
            <a:off x="4311720" y="5519880"/>
            <a:ext cx="1278000" cy="664920"/>
          </a:xfrm>
          <a:prstGeom prst="rect">
            <a:avLst/>
          </a:prstGeom>
          <a:ln w="0">
            <a:noFill/>
          </a:ln>
        </p:spPr>
      </p:pic>
      <p:sp>
        <p:nvSpPr>
          <p:cNvPr id="362" name="Rezervirano mjesto sadržaja 1"/>
          <p:cNvSpPr/>
          <p:nvPr/>
        </p:nvSpPr>
        <p:spPr>
          <a:xfrm>
            <a:off x="609480" y="1989000"/>
            <a:ext cx="7920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Projektni partneri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622440" indent="-343080"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Zavod za javno zdravlje Sombor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622440" indent="-343080"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Fond „Evropski poslovi“ Autonomne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pokrajine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Vojvodine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622440" indent="-343080"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Zavod za javno zdravstvo Osječko-baranjske županije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62244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Vrijednost projekta 982 167,50 EUR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Proračun ZZJZ-a 377 372,00 EUR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79280" y="2636640"/>
            <a:ext cx="8785440" cy="50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09600" algn="just">
              <a:lnSpc>
                <a:spcPct val="70000"/>
              </a:lnSpc>
              <a:spcBef>
                <a:spcPts val="575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73e87"/>
                </a:solidFill>
                <a:latin typeface="Candara"/>
              </a:rPr>
              <a:t>Mapa legla </a:t>
            </a:r>
            <a:r>
              <a:rPr b="0" lang="hr-HR" sz="2300" spc="-1" strike="noStrike">
                <a:solidFill>
                  <a:srgbClr val="073e87"/>
                </a:solidFill>
                <a:latin typeface="Candara"/>
              </a:rPr>
              <a:t>komaraca (ukupno 80 376,61 ha, 23 489 ha u OBŽ-u)</a:t>
            </a:r>
            <a:endParaRPr b="0" lang="en-US" sz="2300" spc="-1" strike="noStrike">
              <a:solidFill>
                <a:srgbClr val="073e87"/>
              </a:solidFill>
              <a:latin typeface="Candara"/>
            </a:endParaRPr>
          </a:p>
          <a:p>
            <a:pPr lvl="1" marL="644400" indent="-309600" algn="just">
              <a:lnSpc>
                <a:spcPct val="70000"/>
              </a:lnSpc>
              <a:spcBef>
                <a:spcPts val="575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73e87"/>
                </a:solidFill>
                <a:latin typeface="Candara"/>
              </a:rPr>
              <a:t>Zapadna Bačka: 188 000 stanovnika, OBŽ: 305 000 stanovnika</a:t>
            </a:r>
            <a:endParaRPr b="0" lang="en-US" sz="2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774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Rezultati projekta MOS-Cros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5" name="Slika 3" descr=""/>
          <p:cNvPicPr/>
          <p:nvPr/>
        </p:nvPicPr>
        <p:blipFill>
          <a:blip r:embed="rId1"/>
          <a:stretch/>
        </p:blipFill>
        <p:spPr>
          <a:xfrm>
            <a:off x="6961320" y="6346800"/>
            <a:ext cx="2195280" cy="511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aphicFrame>
        <p:nvGraphicFramePr>
          <p:cNvPr id="366" name="Rezervirano mjesto sadržaja 6"/>
          <p:cNvGraphicFramePr/>
          <p:nvPr/>
        </p:nvGraphicFramePr>
        <p:xfrm>
          <a:off x="992160" y="3306600"/>
          <a:ext cx="6751800" cy="3346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67" name="Rezervirano mjesto sadržaja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2160" y="3306600"/>
                    <a:ext cx="67518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970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ICT alat 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i </a:t>
            </a: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baza podataka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lvl="1" marL="618480" indent="-297000" algn="just"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Integrirani sustav za praćenje i rano uzbunjivan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618480" indent="-297000" algn="just"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Javno dostupan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29040" indent="-2970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Obučeni lokalni javnozdravstveni stručnjaci 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(10 sa Zavoda) u okviru 5 treninga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lvl="1" marL="618480" indent="-297000" algn="just"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73e87"/>
                </a:solidFill>
                <a:latin typeface="Candara"/>
              </a:rPr>
              <a:t>Protokol</a:t>
            </a: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hr-HR" sz="1900" spc="-1" strike="noStrike">
                <a:solidFill>
                  <a:srgbClr val="073e87"/>
                </a:solidFill>
                <a:latin typeface="Candara"/>
              </a:rPr>
              <a:t>za nadziranje prisutnosti </a:t>
            </a: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komaraca u prekograničnom području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29040" indent="-2970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uzorkovanja i testiranja 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- virus Zika i virus Zapadnog Nila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lvl="1" marL="618480" indent="-2970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1200 uzoraka u OBŽ-u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329040" indent="-297000">
              <a:spcBef>
                <a:spcPts val="5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Rezultati projekta MOS-Cros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871560" y="2674440"/>
            <a:ext cx="41320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Od svibnja do listopada 2018. i 2019. godin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CDC klopke na 25 postaj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BG Sentinel na 25 postaj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Candara"/>
              </a:rPr>
              <a:t>Uzorkovanje komaraca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2" name="Slika 3" descr=""/>
          <p:cNvPicPr/>
          <p:nvPr/>
        </p:nvPicPr>
        <p:blipFill>
          <a:blip r:embed="rId1"/>
          <a:stretch/>
        </p:blipFill>
        <p:spPr>
          <a:xfrm>
            <a:off x="5364000" y="620640"/>
            <a:ext cx="337212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971640" y="2133720"/>
            <a:ext cx="74088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24 satna rotirajuća klopka na 10 postaj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5" name="Slika 5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2643480" cy="3525840"/>
          </a:xfrm>
          <a:prstGeom prst="rect">
            <a:avLst/>
          </a:prstGeom>
          <a:ln w="0">
            <a:noFill/>
          </a:ln>
        </p:spPr>
      </p:pic>
      <p:pic>
        <p:nvPicPr>
          <p:cNvPr id="376" name="Slika 6" descr=""/>
          <p:cNvPicPr/>
          <p:nvPr/>
        </p:nvPicPr>
        <p:blipFill>
          <a:blip r:embed="rId2"/>
          <a:stretch/>
        </p:blipFill>
        <p:spPr>
          <a:xfrm>
            <a:off x="4859280" y="2708280"/>
            <a:ext cx="262584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87280" y="2204640"/>
            <a:ext cx="85694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Izrađene </a:t>
            </a: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preporuke za predstavnike JLS-a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 u prekograničnom području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305280" indent="-275400" algn="just"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Izrađen zajednički </a:t>
            </a:r>
            <a:r>
              <a:rPr b="1" lang="hr-HR" sz="2000" spc="-1" strike="noStrike">
                <a:solidFill>
                  <a:srgbClr val="073e87"/>
                </a:solidFill>
                <a:latin typeface="Candara"/>
              </a:rPr>
              <a:t>protokol za spremnost u slučaju izbijanja epidemija </a:t>
            </a: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bolesti koje prenose komarci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052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Educiranje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 osnovnoškolske </a:t>
            </a: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djece i štićenika domova 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za stare i nemoćne 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lvl="1" marL="5734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(10 osnovnih škola – 2198 + 2 staračka doma – 95)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3052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Izrađen </a:t>
            </a: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edukacijski video 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3052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Podjela BTI granula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 za larvicidno tretiranje komaraca 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lvl="1" marL="5734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(1000 kućanstava)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3052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izrađena </a:t>
            </a: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internetska stranica </a:t>
            </a:r>
            <a:r>
              <a:rPr b="1" lang="en-GB" sz="21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http://www.moscross.eu/hr/pocetna/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Rezultati projekta MOS-Cros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9" name="Rectangle 1"/>
          <p:cNvSpPr/>
          <p:nvPr/>
        </p:nvSpPr>
        <p:spPr>
          <a:xfrm>
            <a:off x="0" y="-183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 u="sng">
                <a:solidFill>
                  <a:srgbClr val="0080ff"/>
                </a:solidFill>
                <a:uFillTx/>
                <a:latin typeface="Arial"/>
                <a:hlinkClick r:id="rId2"/>
              </a:rPr>
              <a:t>https://megaupload.nz/ReL0W7r0bc/FILM_KOMARCI_HRVATSKI_HD_1080p_mp4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6T07:16:14Z</dcterms:created>
  <dc:creator>zzjz-na</dc:creator>
  <dc:description/>
  <dc:language>en-US</dc:language>
  <cp:lastModifiedBy>Ilija Kamenko</cp:lastModifiedBy>
  <cp:lastPrinted>2019-05-24T05:49:53Z</cp:lastPrinted>
  <dcterms:modified xsi:type="dcterms:W3CDTF">2019-10-23T17:32:20Z</dcterms:modified>
  <cp:revision>112</cp:revision>
  <dc:subject/>
  <dc:title>PowerPointova prezentacija</dc:title>
</cp:coreProperties>
</file>