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DA1C-4458-4D51-B4D7-7D418CDF65A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8F4C-D8A4-4B07-853D-DE558F64BC8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74640" y="819000"/>
            <a:ext cx="5386320" cy="4042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2840" y="5119560"/>
            <a:ext cx="539100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7EDB-6697-4862-9A81-581BA3ABE71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74640" y="819000"/>
            <a:ext cx="5386320" cy="40420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2840" y="5119560"/>
            <a:ext cx="539100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95D-F20E-4FD5-B24D-C594F71C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EFB-4634-4880-952C-7D52CE9E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F9A-E2D5-401F-8F7A-094AAC13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E78-C090-4CF1-9190-9769D337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6C6-C8F9-40F5-BC28-04688C18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1BC7-F55F-4F3A-9372-DD6FEF8D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11F2-D3A9-4060-BBD9-2942BE8D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A1A3-FE9A-4FB4-9232-811E0C3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9C37-EBBD-48FA-8B9D-0259966B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9ED-4365-473B-836D-076C43D1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F2C6-0C6F-47EE-82AC-0D66D9D5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953-9D54-492B-95D1-A54F8D8B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9853-2410-4D91-9C6F-D0A00B2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B75-F33B-45EF-8E23-A11F98A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6000-F9F8-47C4-AC33-0119D93E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1EC7-E62A-4828-8730-281AA0DF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9C0-F595-4EC9-8CFC-F618F2EE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D7A4-6EBA-4FA3-8C11-27553984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B155-2713-45B0-872A-C6C9800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8ED1-5F00-4848-85A2-6C57C785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50D0-6242-4CB4-9A1F-CE95688C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116E4-30EB-40B5-9DD9-2ED52908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B55-1B4E-43C7-A5E8-8C97E1B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EB64-02EA-42FC-919D-4CBC2370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B29FB-EC9E-45FF-A8B1-845CD482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8C21-1ABB-4CDF-A20E-BFB778CD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DAF2-BD85-4304-BD4C-066174B2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A6DA-6865-47D9-A2A3-4F7D7A6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846A-023A-4A50-86AC-23082F0A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8A33-EB52-4222-9F27-DF68FFAB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1BE1-9B4E-424D-BC42-75092FAC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07C1-D5B9-4168-A6A9-E1295B96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A6B6-7A19-4BE4-9DD0-6573CC2B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4C8-0FDF-4E3A-8B6B-02CE2E1D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59C9-1B9F-4B9F-AC0A-81C404EB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5421-F8A6-4FCB-A04E-6459F0B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7CDC5-9B09-4ED8-BE4C-DA9F4726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21E0-60DA-451F-8912-ECA6ACE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38F9-27BD-479A-ABD4-431D9D5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6F24-FE40-4721-BB6B-5FF11BF3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E7BB-EA98-43A2-A115-773B3843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07DC-A352-49AE-88FE-70E7E013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37DF-F16D-4830-B9D1-45B9EEAE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FDD4B-3BEE-4B43-80C7-9B80F55B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D53-49B0-4658-AB05-5395FCF5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2081-1AE7-4DEC-946A-2D75ACDF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9E2A-658B-406F-BBD8-10BB8A9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94CB6-9384-45BE-A9A1-C0942B6D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80DEB-4EEA-4ABA-AEDC-2DED3035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A5D54-E10A-4E0B-B2AF-B21F8D1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9C80F-CE36-40BF-9C85-49BB607F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7CC0F-D56D-4FD5-A29E-96701FE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1E88-F471-425F-8260-77D8929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0A3A4-426D-4F4B-A9E7-245E2DBD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5BE97-6680-471F-BBC0-E8F96035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FB1-98A9-41E3-99F1-AF85C85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74AB-7F03-43E6-8DDD-02FB4D27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96C9-D15A-4BA6-86A8-5183248B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6A15-54C0-4191-9196-0C6642C9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3790-9CB0-4C7D-A26A-53134AFA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2F98E-8EB5-4DF1-A4C5-7A5F0A73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24A23-09CA-4B67-8177-D89102F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328A0-76DA-49A2-BF67-576E1B48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FB767-4C65-4227-9134-C261B2C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94A1-8552-4FDB-ADF4-135D9E5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0B135-39E5-46B0-BFB5-694F1C3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8E7-5EC5-44EA-88F6-61ED2FDA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CE3F7-5B75-49F4-B575-95D0D05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D321-6871-4DB8-BEF4-09436EAC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C3DC-223F-4A6F-9767-D4B25CBB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3A79-6683-4027-A957-AA86A325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5E6D-D8B0-4332-8B51-BE34392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1D36A-3583-4E54-8909-CE50B390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986C-7FC9-4526-AB89-273F5DE3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56C12-C332-4B3D-ACB9-81EB5E65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5C8B-6A81-4137-B680-C3710B4A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481A1-3647-4BD5-AFC4-E8A66DB9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195-2C1E-464C-809A-440E5A1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BCBF-14BB-4422-8D82-FBAE6B3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315E9-7839-4B70-845E-8F4EC23B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C53C2-253F-4F0C-8132-B4A0CFF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628FD-4BE8-4A20-9B63-91F63FA7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A77D7-8544-4D20-BA93-AF92DDFC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B32-CE40-47C7-8BB5-12DA9DA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E07C-605F-489F-8DAE-1080BE63785A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D5DB-4773-4580-8229-C007BEE7AA61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3CC3-EE06-43CF-AB90-D0827DEADB97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932F-3711-4C4F-91E6-736991E5C9A0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ABD7-AA11-42A6-853B-D45611215529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738F-F8A1-41A2-9D76-3AC02CCC6C5E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E979-B0BA-402B-BA22-AA863ED94E89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scross.eu/hr/pocetna/" TargetMode="External"/><Relationship Id="rId2" Type="http://schemas.openxmlformats.org/officeDocument/2006/relationships/hyperlink" Target="https://megaupload.nz/ReL0W7r0bc/FILM_KOMARCI_HRVATSKI_HD_1080p_mp4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36080" cy="1444680"/>
          </a:xfrm>
          <a:prstGeom prst="rect">
            <a:avLst/>
          </a:prstGeom>
          <a:ln w="0">
            <a:noFill/>
          </a:ln>
        </p:spPr>
      </p:pic>
      <p:pic>
        <p:nvPicPr>
          <p:cNvPr id="343" name="Slika 3" descr=""/>
          <p:cNvPicPr/>
          <p:nvPr/>
        </p:nvPicPr>
        <p:blipFill>
          <a:blip r:embed="rId2"/>
          <a:stretch/>
        </p:blipFill>
        <p:spPr>
          <a:xfrm>
            <a:off x="4040280" y="203040"/>
            <a:ext cx="4897440" cy="108432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sp>
        <p:nvSpPr>
          <p:cNvPr id="344" name="TekstniOkvir 4"/>
          <p:cNvSpPr/>
          <p:nvPr/>
        </p:nvSpPr>
        <p:spPr>
          <a:xfrm>
            <a:off x="243000" y="2935440"/>
            <a:ext cx="8640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ndara"/>
              </a:rPr>
              <a:t>Predstavljanje projekta Kontrola komaraca u prekograničnom području (MOS-Cross) i smjernica za prevenciju bolesti koje prenose komarci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5" name="TekstniOkvir 5"/>
          <p:cNvSpPr/>
          <p:nvPr/>
        </p:nvSpPr>
        <p:spPr>
          <a:xfrm>
            <a:off x="260280" y="603252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Magdalena Sikora,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profesor biologije i kemij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kstniOkvir 8"/>
          <p:cNvSpPr/>
          <p:nvPr/>
        </p:nvSpPr>
        <p:spPr>
          <a:xfrm>
            <a:off x="5580000" y="6310440"/>
            <a:ext cx="33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Osijek, 27. svibnja 2019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Javna događanj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1. Sajam antikvitet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1. 9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cirano 15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3C00-9D1D-4F8F-BF8D-5E93701849E1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4" name="Slika 7" descr=""/>
          <p:cNvPicPr/>
          <p:nvPr/>
        </p:nvPicPr>
        <p:blipFill>
          <a:blip r:embed="rId1"/>
          <a:stretch/>
        </p:blipFill>
        <p:spPr>
          <a:xfrm>
            <a:off x="4500720" y="3141720"/>
            <a:ext cx="2185920" cy="2914560"/>
          </a:xfrm>
          <a:prstGeom prst="rect">
            <a:avLst/>
          </a:prstGeom>
          <a:ln w="0">
            <a:noFill/>
          </a:ln>
        </p:spPr>
      </p:pic>
      <p:pic>
        <p:nvPicPr>
          <p:cNvPr id="385" name="Slika 8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441600" cy="1935360"/>
          </a:xfrm>
          <a:prstGeom prst="rect">
            <a:avLst/>
          </a:prstGeom>
          <a:ln w="0">
            <a:noFill/>
          </a:ln>
        </p:spPr>
      </p:pic>
      <p:pic>
        <p:nvPicPr>
          <p:cNvPr id="386" name="Slika 9" descr=""/>
          <p:cNvPicPr/>
          <p:nvPr/>
        </p:nvPicPr>
        <p:blipFill>
          <a:blip r:embed="rId3"/>
          <a:stretch/>
        </p:blipFill>
        <p:spPr>
          <a:xfrm>
            <a:off x="7020000" y="4076640"/>
            <a:ext cx="173664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Javna događanj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7960" y="1413000"/>
            <a:ext cx="393552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73e87"/>
                </a:solidFill>
                <a:latin typeface="Candara"/>
              </a:rPr>
              <a:t>Educiranje građana </a:t>
            </a: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(76 500 putem medija, 19 500 na ljetnim događanjima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Obilježavanje Međunarodnog dana rijeke Drav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Konferencija - 20. 9. 2018. – </a:t>
            </a:r>
            <a:r>
              <a:rPr b="1" lang="hr-HR" sz="2200" spc="-1" strike="noStrike" u="sng">
                <a:solidFill>
                  <a:srgbClr val="073e87"/>
                </a:solidFill>
                <a:uFillTx/>
                <a:latin typeface="Candara"/>
              </a:rPr>
              <a:t>predstavnici nacionalne, regionalne i lokalne samouprave (70 sudionika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održana prezentacija MOS-Cros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distribucija letaka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predstavnici medija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0192-BF2E-420B-9B63-4A8B291F2649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1" name="Slika 6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211640" cy="2806920"/>
          </a:xfrm>
          <a:prstGeom prst="rect">
            <a:avLst/>
          </a:prstGeom>
          <a:ln w="0">
            <a:noFill/>
          </a:ln>
        </p:spPr>
      </p:pic>
      <p:pic>
        <p:nvPicPr>
          <p:cNvPr id="392" name="Slika 8" descr=""/>
          <p:cNvPicPr/>
          <p:nvPr/>
        </p:nvPicPr>
        <p:blipFill>
          <a:blip r:embed="rId2"/>
          <a:stretch/>
        </p:blipFill>
        <p:spPr>
          <a:xfrm>
            <a:off x="6948360" y="4581360"/>
            <a:ext cx="15354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Candara"/>
              </a:rPr>
              <a:t>Obilježavanje Međunarodnog dana rijeke Drav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22. 9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cirano 10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Rezervirano mjesto datuma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8CC8-F11A-4E04-91BD-5677D8C1574E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8" name="Slika 6" descr=""/>
          <p:cNvPicPr/>
          <p:nvPr/>
        </p:nvPicPr>
        <p:blipFill>
          <a:blip r:embed="rId1"/>
          <a:stretch/>
        </p:blipFill>
        <p:spPr>
          <a:xfrm>
            <a:off x="6411960" y="1986120"/>
            <a:ext cx="2374920" cy="3620880"/>
          </a:xfrm>
          <a:prstGeom prst="rect">
            <a:avLst/>
          </a:prstGeom>
          <a:ln w="0">
            <a:noFill/>
          </a:ln>
        </p:spPr>
      </p:pic>
      <p:pic>
        <p:nvPicPr>
          <p:cNvPr id="399" name="Slika 7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38466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21. Osječki jesenski saja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2477880"/>
            <a:ext cx="29718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Trodnevno događan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5. - 7. 10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cirano </a:t>
            </a:r>
            <a:r>
              <a:rPr b="0" lang="hr-HR" sz="2400" spc="-1" strike="noStrike">
                <a:solidFill>
                  <a:srgbClr val="ff0000"/>
                </a:solidFill>
                <a:latin typeface="Candara"/>
              </a:rPr>
              <a:t>17 0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3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047-26B0-4224-8EF9-A30489174A5D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4" name="Slika 6" descr=""/>
          <p:cNvPicPr/>
          <p:nvPr/>
        </p:nvPicPr>
        <p:blipFill>
          <a:blip r:embed="rId1"/>
          <a:stretch/>
        </p:blipFill>
        <p:spPr>
          <a:xfrm>
            <a:off x="6985080" y="857160"/>
            <a:ext cx="2158920" cy="2879640"/>
          </a:xfrm>
          <a:prstGeom prst="rect">
            <a:avLst/>
          </a:prstGeom>
          <a:ln w="0">
            <a:noFill/>
          </a:ln>
        </p:spPr>
      </p:pic>
      <p:pic>
        <p:nvPicPr>
          <p:cNvPr id="405" name="Slika 7" descr=""/>
          <p:cNvPicPr/>
          <p:nvPr/>
        </p:nvPicPr>
        <p:blipFill>
          <a:blip r:embed="rId2"/>
          <a:stretch/>
        </p:blipFill>
        <p:spPr>
          <a:xfrm>
            <a:off x="4851360" y="1414440"/>
            <a:ext cx="1860480" cy="3308400"/>
          </a:xfrm>
          <a:prstGeom prst="rect">
            <a:avLst/>
          </a:prstGeom>
          <a:ln w="0">
            <a:noFill/>
          </a:ln>
        </p:spPr>
      </p:pic>
      <p:pic>
        <p:nvPicPr>
          <p:cNvPr id="406" name="Slika 8" descr=""/>
          <p:cNvPicPr/>
          <p:nvPr/>
        </p:nvPicPr>
        <p:blipFill>
          <a:blip r:embed="rId3"/>
          <a:stretch/>
        </p:blipFill>
        <p:spPr>
          <a:xfrm>
            <a:off x="7157880" y="3394080"/>
            <a:ext cx="138276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FILM KOMARCI_HRVATSKI_HD_1080p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80440" cy="47134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Izrađen 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edukacijski video 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1000" y="333000"/>
            <a:ext cx="88664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Suzbijanje komaraca u prekograničnom području</a:t>
            </a:r>
            <a:br>
              <a:rPr sz="3300"/>
            </a:b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MOS-Cross2</a:t>
            </a:r>
            <a:br>
              <a:rPr sz="3300"/>
            </a:b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1. ožujka 2019. </a:t>
            </a:r>
            <a:r>
              <a:rPr b="0" lang="hr-HR" sz="3300" spc="-1" strike="noStrike">
                <a:solidFill>
                  <a:srgbClr val="ffffff"/>
                </a:solidFill>
                <a:latin typeface="Candara"/>
                <a:ea typeface="MS Mincho"/>
              </a:rPr>
              <a:t>– 28. veljače 2021.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76080" y="2679480"/>
            <a:ext cx="7856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jektni partneri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Osječko-baranjske župani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ombo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Brodsko-posavske župani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Fond „Evropski poslovi“ Autonom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okraji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Vojvodi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remska Mitrovic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Vrijednost projekta 990 273,20 EU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račun ZZJZ-a 255 912,10 EU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1" name="Slika 2" descr=""/>
          <p:cNvPicPr/>
          <p:nvPr/>
        </p:nvPicPr>
        <p:blipFill>
          <a:blip r:embed="rId1"/>
          <a:stretch/>
        </p:blipFill>
        <p:spPr>
          <a:xfrm>
            <a:off x="6732720" y="6296040"/>
            <a:ext cx="2411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Planirani rezultati projek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50920" y="1988640"/>
            <a:ext cx="8642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mapiranje legala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u BPŽ-u i Vojvodin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BPŽ: 70 000 stanovnika, Vojvodina 150 000 stanovnik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roširenje mape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iz projekta MOS-Cross (područje i opseg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ažuriran 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ICT alat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izrada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 aplikacije za mobitele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uzorkovanje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na prisutnost patogena i invazivnih vrsta komaraca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ažuriranje protokola novim patogenim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denga, chikungunya, malarija) i invazivnim vrstama komarac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ažuriran 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zajednički protokol za spremnost u slučaju izbijanja epidemij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bolesti koje prenose komarc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educiranje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osnovnoškolske </a:t>
            </a: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djece i štićenika domova </a:t>
            </a: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a stare i nemoćne te članova </a:t>
            </a: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mirovljeničkih udrug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reporuke za predstavnike JLS-a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u BPŽ-u i Vojvodin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odjela ovipozicijskih klopki stanovništvu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1000 kućanstava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trening javnozdravstvenih djelatnika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svjetleće ploče za suzbijanje komarac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10 u Osijeku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4" name="Slika 3" descr=""/>
          <p:cNvPicPr/>
          <p:nvPr/>
        </p:nvPicPr>
        <p:blipFill>
          <a:blip r:embed="rId1"/>
          <a:stretch/>
        </p:blipFill>
        <p:spPr>
          <a:xfrm>
            <a:off x="6656400" y="6313320"/>
            <a:ext cx="24876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8480" y="150840"/>
            <a:ext cx="822780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40880" cy="5373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2658960" y="220680"/>
            <a:ext cx="3429000" cy="6746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"/>
          <p:cNvSpPr/>
          <p:nvPr/>
        </p:nvSpPr>
        <p:spPr>
          <a:xfrm>
            <a:off x="-71640" y="903240"/>
            <a:ext cx="9156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Interreg IPA Program prekogranične suradnje Hrvatska-Srbija 2014.</a:t>
            </a:r>
            <a:r>
              <a:rPr b="0" lang="hr-HR" sz="21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2020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Elipsa 1"/>
          <p:cNvSpPr/>
          <p:nvPr/>
        </p:nvSpPr>
        <p:spPr>
          <a:xfrm>
            <a:off x="3276720" y="2852640"/>
            <a:ext cx="1726920" cy="647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0" name="Elipsa 6"/>
          <p:cNvSpPr/>
          <p:nvPr/>
        </p:nvSpPr>
        <p:spPr>
          <a:xfrm>
            <a:off x="5364000" y="2421000"/>
            <a:ext cx="936720" cy="72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1" name="Elipsa 7"/>
          <p:cNvSpPr/>
          <p:nvPr/>
        </p:nvSpPr>
        <p:spPr>
          <a:xfrm>
            <a:off x="6372360" y="3068640"/>
            <a:ext cx="1079280" cy="865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Elipsa 8"/>
          <p:cNvSpPr/>
          <p:nvPr/>
        </p:nvSpPr>
        <p:spPr>
          <a:xfrm>
            <a:off x="1795320" y="3689280"/>
            <a:ext cx="2416320" cy="46044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Elipsa 9"/>
          <p:cNvSpPr/>
          <p:nvPr/>
        </p:nvSpPr>
        <p:spPr>
          <a:xfrm>
            <a:off x="6443640" y="4005360"/>
            <a:ext cx="1152720" cy="5760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Slika 5" descr=""/>
          <p:cNvPicPr/>
          <p:nvPr/>
        </p:nvPicPr>
        <p:blipFill>
          <a:blip r:embed="rId1"/>
          <a:stretch/>
        </p:blipFill>
        <p:spPr>
          <a:xfrm>
            <a:off x="5364000" y="4032360"/>
            <a:ext cx="3495960" cy="2824200"/>
          </a:xfrm>
          <a:prstGeom prst="rect">
            <a:avLst/>
          </a:prstGeom>
          <a:ln w="0">
            <a:noFill/>
          </a:ln>
        </p:spPr>
      </p:pic>
      <p:pic>
        <p:nvPicPr>
          <p:cNvPr id="425" name="Slika 6" descr=""/>
          <p:cNvPicPr/>
          <p:nvPr/>
        </p:nvPicPr>
        <p:blipFill>
          <a:blip r:embed="rId2"/>
          <a:srcRect l="41009" t="0" r="31432" b="0"/>
          <a:stretch/>
        </p:blipFill>
        <p:spPr>
          <a:xfrm>
            <a:off x="179280" y="189000"/>
            <a:ext cx="3178440" cy="6480000"/>
          </a:xfrm>
          <a:prstGeom prst="rect">
            <a:avLst/>
          </a:prstGeom>
          <a:ln w="0">
            <a:noFill/>
          </a:ln>
        </p:spPr>
      </p:pic>
      <p:pic>
        <p:nvPicPr>
          <p:cNvPr id="426" name="Slika 1" descr=""/>
          <p:cNvPicPr/>
          <p:nvPr/>
        </p:nvPicPr>
        <p:blipFill>
          <a:blip r:embed="rId3"/>
          <a:stretch/>
        </p:blipFill>
        <p:spPr>
          <a:xfrm>
            <a:off x="6168960" y="0"/>
            <a:ext cx="2975040" cy="692280"/>
          </a:xfrm>
          <a:prstGeom prst="rect">
            <a:avLst/>
          </a:prstGeom>
          <a:ln w="0">
            <a:noFill/>
          </a:ln>
        </p:spPr>
      </p:pic>
      <p:sp>
        <p:nvSpPr>
          <p:cNvPr id="427" name="Pravokutnik 2"/>
          <p:cNvSpPr/>
          <p:nvPr/>
        </p:nvSpPr>
        <p:spPr>
          <a:xfrm>
            <a:off x="3635280" y="620640"/>
            <a:ext cx="49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Uređaj emitira u okoliš smjesu koja sadrži mliječnu kiselinu i CO₂  te na taj način privlači komarc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Kombinacijom dvaju atraktanata privlači komarce, a flourescentno svijetlo poboljšava privlačenje komaraca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Jednom privučeni, komarci ostaju zarobljeni unutar ploče i na kraju ugibaju od dehidracij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Reklame se postavljaju na pažljivo birana mjesta gdje se ljudi ne zadržavaju kako ne bi dobili kontra efekt – 10 lokacija/partner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Mosquito killer billboard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76080" y="2679480"/>
            <a:ext cx="8072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https://www.youtube.com/watch?v=M1kpjGeimdk&amp;t=11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0" name="M1kpjGeimdk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80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Slika 5" descr=""/>
          <p:cNvPicPr/>
          <p:nvPr/>
        </p:nvPicPr>
        <p:blipFill>
          <a:blip r:embed="rId1"/>
          <a:stretch/>
        </p:blipFill>
        <p:spPr>
          <a:xfrm>
            <a:off x="5148360" y="4505400"/>
            <a:ext cx="2981160" cy="223668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58752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Komarc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55640" y="1628640"/>
            <a:ext cx="489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u RH prisutno 50-ak vrsta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U OBŽ – 20-ak vrsta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ajznačajniji vektor – 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Culex pipien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ajbronija vrsta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: Aedes vexans (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više od 90%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Invazivne vrste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: Ae.albopictus; Ae. japonicu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komarci su osim molestanata i prijenosnici zaraznih bolesti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https://www.youtube.com/watch?v=rD8SmacBUcU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e poznaju granic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619920" indent="-3186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Rezervirano mjesto sadržaja 4" descr=""/>
          <p:cNvPicPr/>
          <p:nvPr/>
        </p:nvPicPr>
        <p:blipFill>
          <a:blip r:embed="rId2"/>
          <a:stretch/>
        </p:blipFill>
        <p:spPr>
          <a:xfrm>
            <a:off x="6262560" y="1736640"/>
            <a:ext cx="2630520" cy="262908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pic>
        <p:nvPicPr>
          <p:cNvPr id="351" name="Slika 3" descr=""/>
          <p:cNvPicPr/>
          <p:nvPr/>
        </p:nvPicPr>
        <p:blipFill>
          <a:blip r:embed="rId3"/>
          <a:stretch/>
        </p:blipFill>
        <p:spPr>
          <a:xfrm>
            <a:off x="0" y="6276960"/>
            <a:ext cx="2490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Hvala na pozornosti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5" name="Slika 1" descr=""/>
          <p:cNvPicPr/>
          <p:nvPr/>
        </p:nvPicPr>
        <p:blipFill>
          <a:blip r:embed="rId1"/>
          <a:stretch/>
        </p:blipFill>
        <p:spPr>
          <a:xfrm>
            <a:off x="3013200" y="3141720"/>
            <a:ext cx="311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150840"/>
            <a:ext cx="822780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40880" cy="5373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2658960" y="220680"/>
            <a:ext cx="3429000" cy="674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-71640" y="903240"/>
            <a:ext cx="9156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Interreg IPA Program prekogranične suradnje Hrvatska-Srbija 2014.</a:t>
            </a:r>
            <a:r>
              <a:rPr b="0" lang="hr-HR" sz="21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2020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1120" y="404640"/>
            <a:ext cx="885672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Suzbijanje komaraca u prekograničnom području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15. srpnja 2017. – 14. listopada 2019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6046920" y="5632560"/>
            <a:ext cx="2712960" cy="534960"/>
          </a:xfrm>
          <a:prstGeom prst="rect">
            <a:avLst/>
          </a:prstGeom>
          <a:ln w="0">
            <a:noFill/>
          </a:ln>
        </p:spPr>
      </p:pic>
      <p:pic>
        <p:nvPicPr>
          <p:cNvPr id="358" name="Slika 22" descr=""/>
          <p:cNvPicPr/>
          <p:nvPr/>
        </p:nvPicPr>
        <p:blipFill>
          <a:blip r:embed="rId2"/>
          <a:stretch/>
        </p:blipFill>
        <p:spPr>
          <a:xfrm>
            <a:off x="534960" y="55166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9"/>
          <p:cNvSpPr/>
          <p:nvPr/>
        </p:nvSpPr>
        <p:spPr>
          <a:xfrm>
            <a:off x="1155600" y="5665680"/>
            <a:ext cx="900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800" spc="-1" strike="noStrike">
                <a:solidFill>
                  <a:srgbClr val="2862aa"/>
                </a:solidFill>
                <a:latin typeface="Candara"/>
              </a:rPr>
              <a:t>Zavod za javno zdravlje Sombor</a:t>
            </a:r>
            <a:endParaRPr b="0" lang="en-US" sz="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Slika 20" descr=""/>
          <p:cNvPicPr/>
          <p:nvPr/>
        </p:nvPicPr>
        <p:blipFill>
          <a:blip r:embed="rId3"/>
          <a:stretch/>
        </p:blipFill>
        <p:spPr>
          <a:xfrm>
            <a:off x="2274840" y="5472000"/>
            <a:ext cx="1579680" cy="708120"/>
          </a:xfrm>
          <a:prstGeom prst="rect">
            <a:avLst/>
          </a:prstGeom>
          <a:ln w="0">
            <a:noFill/>
          </a:ln>
        </p:spPr>
      </p:pic>
      <p:pic>
        <p:nvPicPr>
          <p:cNvPr id="361" name="Slika 25" descr=""/>
          <p:cNvPicPr/>
          <p:nvPr/>
        </p:nvPicPr>
        <p:blipFill>
          <a:blip r:embed="rId4"/>
          <a:stretch/>
        </p:blipFill>
        <p:spPr>
          <a:xfrm>
            <a:off x="4311720" y="5519880"/>
            <a:ext cx="1278000" cy="664920"/>
          </a:xfrm>
          <a:prstGeom prst="rect">
            <a:avLst/>
          </a:prstGeom>
          <a:ln w="0">
            <a:noFill/>
          </a:ln>
        </p:spPr>
      </p:pic>
      <p:sp>
        <p:nvSpPr>
          <p:cNvPr id="362" name="Rezervirano mjesto sadržaja 1"/>
          <p:cNvSpPr/>
          <p:nvPr/>
        </p:nvSpPr>
        <p:spPr>
          <a:xfrm>
            <a:off x="609480" y="1989000"/>
            <a:ext cx="792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jektni partneri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ombor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Fond „Evropski poslovi“ Autonom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okraji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Vojvodin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Osječko-baranjske županij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Vrijednost projekta 982 167,50 EUR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račun ZZJZ-a 377 372,00 EU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9280" y="2636640"/>
            <a:ext cx="8785440" cy="50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09600" algn="just">
              <a:lnSpc>
                <a:spcPct val="70000"/>
              </a:lnSpc>
              <a:spcBef>
                <a:spcPts val="575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73e87"/>
                </a:solidFill>
                <a:latin typeface="Candara"/>
              </a:rPr>
              <a:t>Mapa legla </a:t>
            </a:r>
            <a:r>
              <a:rPr b="0" lang="hr-HR" sz="2300" spc="-1" strike="noStrike">
                <a:solidFill>
                  <a:srgbClr val="073e87"/>
                </a:solidFill>
                <a:latin typeface="Candara"/>
              </a:rPr>
              <a:t>komaraca (ukupno 80 376,61 ha, 23 489 ha u OBŽ-u)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lvl="1" marL="644400" indent="-309600" algn="just">
              <a:lnSpc>
                <a:spcPct val="70000"/>
              </a:lnSpc>
              <a:spcBef>
                <a:spcPts val="575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73e87"/>
                </a:solidFill>
                <a:latin typeface="Candara"/>
              </a:rPr>
              <a:t>Zapadna Bačka: 188 000 stanovnika, OBŽ: 305 000 stanovnika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Slika 3" descr=""/>
          <p:cNvPicPr/>
          <p:nvPr/>
        </p:nvPicPr>
        <p:blipFill>
          <a:blip r:embed="rId1"/>
          <a:stretch/>
        </p:blipFill>
        <p:spPr>
          <a:xfrm>
            <a:off x="6961320" y="6346800"/>
            <a:ext cx="2195280" cy="51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366" name="Rezervirano mjesto sadržaja 6"/>
          <p:cNvGraphicFramePr/>
          <p:nvPr/>
        </p:nvGraphicFramePr>
        <p:xfrm>
          <a:off x="992160" y="3306600"/>
          <a:ext cx="675180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7" name="Rezervirano mjesto sadržaja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2160" y="3306600"/>
                    <a:ext cx="67518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ICT alat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baza podatak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Integrirani sustav za praćenje i rano uzbunjivan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Javno dostupan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Obučeni lokalni javnozdravstveni stručnjaci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 sa Zavoda) u okviru 5 trening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Protokol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za nadziranje prisutnosti 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komaraca u prekograničnom području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uzorkovanja i testiranja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- virus Zika i virus Zapadnog Nil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1200 uzoraka u OBŽ-u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>
              <a:spcBef>
                <a:spcPts val="5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71560" y="2674440"/>
            <a:ext cx="4132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Od svibnja do listopada 2018. i 2019. godin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CDC klopke na 25 postaj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BG Sentinel na 25 postaj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Candara"/>
              </a:rPr>
              <a:t>Uzorkovanje komaraca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Slika 3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33721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971640" y="2133720"/>
            <a:ext cx="74088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24 satna rotirajuća klopka na 10 postaj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Slika 5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43480" cy="3525840"/>
          </a:xfrm>
          <a:prstGeom prst="rect">
            <a:avLst/>
          </a:prstGeom>
          <a:ln w="0">
            <a:noFill/>
          </a:ln>
        </p:spPr>
      </p:pic>
      <p:pic>
        <p:nvPicPr>
          <p:cNvPr id="376" name="Slika 6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26258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7280" y="2204640"/>
            <a:ext cx="8569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e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preporuke za predstavnike JLS-a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u prekograničnom području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Izrađen zajednički </a:t>
            </a:r>
            <a:r>
              <a:rPr b="1" lang="hr-HR" sz="2000" spc="-1" strike="noStrike">
                <a:solidFill>
                  <a:srgbClr val="073e87"/>
                </a:solidFill>
                <a:latin typeface="Candara"/>
              </a:rPr>
              <a:t>protokol za spremnost u slučaju izbijanja epidemija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bolesti koje prenose komarci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Educiranje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osnovnoškolske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djece i štićenika domova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za stare i nemoćne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34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 osnovnih škola – 2198 + 2 staračka doma – 95)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edukacijski video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Podjela BTI granula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za larvicidno tretiranje komaraca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34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00 kućanstava)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a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internetska stranica </a:t>
            </a:r>
            <a:r>
              <a:rPr b="1" lang="en-GB" sz="21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www.moscross.eu/hr/pocetna/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https://megaupload.nz/ReL0W7r0bc/FILM_KOMARCI_HRVATSKI_HD_1080p_mp4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6T07:16:14Z</dcterms:created>
  <dc:creator>zzjz-na</dc:creator>
  <dc:description/>
  <dc:language>en-US</dc:language>
  <cp:lastModifiedBy>Ilija Kamenko</cp:lastModifiedBy>
  <cp:lastPrinted>2019-05-24T05:49:53Z</cp:lastPrinted>
  <dcterms:modified xsi:type="dcterms:W3CDTF">2019-10-23T17:32:20Z</dcterms:modified>
  <cp:revision>112</cp:revision>
  <dc:subject/>
  <dc:title>PowerPointova prezentacija</dc:title>
</cp:coreProperties>
</file>