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DCD0-0EA0-4354-B55D-CD9BACE519E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9549-98B8-4828-B49A-4B06B6194C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1AB0-DD98-4977-8A27-79CE2A836CF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ABA-F4DA-473A-8606-F7D1F212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528-6594-4854-ACAE-DCAD49B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43F-E69F-41E6-BCEC-72110288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4B9-859B-4810-828A-D3E37F5D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A714-88D8-4463-8C03-9EBB5135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579F-CDB4-43F2-9762-E9FA03B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A75-0600-4807-AB8A-41C90DD7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709-455E-4AA3-BC59-E06F4F74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9E0B-9C2C-4A66-81B7-220D1996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5D3B-73E2-4531-A302-834C3C5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767E-28A2-47E9-9826-1E843C7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D5A-77C6-4124-94AE-D056C229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C62-C6AD-49F1-86C7-9E4AC6ED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E61C-58D4-4879-B382-09C60A6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EA7A-614B-4CFB-B797-C9E43BA2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D2E7-564F-46E8-AE8C-D6F08A5F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9CA0-4C7E-4864-B009-5AB0753A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1555-3F41-499B-AA4E-62956F71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5475-29F0-49CD-8D5A-ACAA9508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5731-1470-4311-869A-80229074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891A-A349-425C-A3E1-152F1104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A569-3CE5-4F81-82FF-83F16F1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347-4D6B-439A-903A-92484621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E1EC-5473-43FF-87A4-FAC32A5B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21FF-08B6-4A8E-91CC-49E1E92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6A94-E9E3-4451-A0E5-4160894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32E1-4A90-4D36-A80D-16A29E1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31C1-5DFB-496C-963C-26A9B3B9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4145-32CC-4063-86DD-6A40B72B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483E-35DE-4CD3-81B7-8DBB06FC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4354-8448-4D78-B237-86493D3C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A955F-F7AA-4DE5-AAB4-C1657847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E161-FBA0-45A2-884F-A7A5775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507-042D-43F2-82B9-B23F77B6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9D5FD-6F52-4C8F-8F5A-2CAC2184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831E-009A-4C34-A266-1C1C9664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62C7-400A-4AB3-9F28-E2DDF94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0F56-8D3E-433D-89B9-49F6E7B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DCEB-4B18-4907-8AA3-067282B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7E3D-9379-431F-B512-3E3477C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C68B-07AF-47FE-B830-8728BFFA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D1C3-15E1-4EF1-9C95-B1334CF1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A522-8B16-4FA5-B759-44421D8C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80BB-858B-4484-9C72-C85DC00D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5BC-4474-40F1-9C96-24E561B3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F4098-B50E-45E9-8174-4D44EBA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7DC1-FE0C-4C8D-8F48-15CAD68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4D0EB-69E5-40F7-9FB0-83E3559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EC9A-CDAE-452C-9C6D-78D1C5FB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B80D-266D-46DE-AED2-1E8798F8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5A59-6346-4D5C-8B53-5FE194E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3339-2BB1-4C58-A385-5D3FB86A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982D-B796-4D6E-8C0D-5E2D4EC2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F2D2A-B933-4859-809E-B53148C3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B7D8-A95A-46AB-AE33-8C6A16F6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A7B-1789-4108-B1A0-447693AA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DD247-A293-4885-8A38-08D40158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7BF8-A6E8-4D95-899B-B66C2E66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228F-B339-45B3-B261-5F5C9F77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602F4-FE5D-489F-9B76-D3B9233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0812C-3717-45C3-BA82-6F3F16B9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9C7AC-40AE-4F3A-967F-D29390FE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04655-BA98-4125-8827-3C9BF05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25B7A-E856-4113-8BD2-33AFE4D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28050-D37E-4E13-9925-69073BFD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BA07C-F6AF-4DAF-9055-B1EF3E23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170-CF0C-4006-BD3B-2BEF466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2D14-AF65-413E-981D-3A7BDEA5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250F-C740-4C1D-AFCC-6AC3283D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88EE-5925-4D58-B46E-AA7AF6FF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F377-6970-48B7-AB90-BF6B2B4E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54BC-C23E-46F0-B78E-65C6249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A3C8A-2685-4B71-9E42-39177869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70414-5546-47B9-AE1E-BF538F0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EBA76-0A02-4A03-803A-0DAEA736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E46F8-12B8-4D31-8675-8081FB91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BC95-8FA9-4E07-8322-51464A9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D1D-0125-4C46-8541-B2C9257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1A7B-2E7E-445B-908C-E44D0302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B8C7-948C-4401-8747-BED983A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1E3C-3F02-4248-AC30-9B2317D9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290D-D0EB-4595-A9BE-6B2C67CA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108AD-C0A3-4B61-9CFC-E568C493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372-F3C6-4795-ABED-4726F25E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08B1-8598-4143-857B-765D9302D309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4B4B-9740-498D-B9C0-59B8435C8601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76E0-3FF7-45C0-ADCC-0BA33006EBB8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4531-7CF4-40BE-A5F6-43313BC4ABAD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09B-0A7A-4B6C-8D06-BCF7E46F67AD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3B6D-A8F0-4A96-B1E3-49BBA0BB2BDB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1C4-4B47-4BB6-9E23-8317D25B50B5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scross.eu/hr/pocetna/" TargetMode="External"/><Relationship Id="rId2" Type="http://schemas.openxmlformats.org/officeDocument/2006/relationships/hyperlink" Target="https://megaupload.nz/ReL0W7r0bc/FILM_KOMARCI_HRVATSKI_HD_1080p_mp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36080" cy="14446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3" descr=""/>
          <p:cNvPicPr/>
          <p:nvPr/>
        </p:nvPicPr>
        <p:blipFill>
          <a:blip r:embed="rId2"/>
          <a:stretch/>
        </p:blipFill>
        <p:spPr>
          <a:xfrm>
            <a:off x="4040280" y="203040"/>
            <a:ext cx="4897440" cy="108432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4" name="TekstniOkvir 4"/>
          <p:cNvSpPr/>
          <p:nvPr/>
        </p:nvSpPr>
        <p:spPr>
          <a:xfrm>
            <a:off x="243000" y="2935440"/>
            <a:ext cx="8640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ndara"/>
              </a:rPr>
              <a:t>Predstavljanje projekta Kontrola komaraca u prekograničnom području (MOS-Cross) i smernica za prevenciju bolesti koje prenose komarci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TekstniOkvir 5"/>
          <p:cNvSpPr/>
          <p:nvPr/>
        </p:nvSpPr>
        <p:spPr>
          <a:xfrm>
            <a:off x="260280" y="603252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Magdalena Sikora,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profesor biologije i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emij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kstniOkvir 8"/>
          <p:cNvSpPr/>
          <p:nvPr/>
        </p:nvSpPr>
        <p:spPr>
          <a:xfrm>
            <a:off x="5580000" y="6310440"/>
            <a:ext cx="33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Osijek, 27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maj</a:t>
            </a: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 2019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Sajam antikvitet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kovano 15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5DE4-C88F-4BAC-92EA-FF09366D882F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3" name="Slika 7" descr=""/>
          <p:cNvPicPr/>
          <p:nvPr/>
        </p:nvPicPr>
        <p:blipFill>
          <a:blip r:embed="rId1"/>
          <a:stretch/>
        </p:blipFill>
        <p:spPr>
          <a:xfrm>
            <a:off x="4500720" y="3141720"/>
            <a:ext cx="2185920" cy="2914560"/>
          </a:xfrm>
          <a:prstGeom prst="rect">
            <a:avLst/>
          </a:prstGeom>
          <a:ln w="0">
            <a:noFill/>
          </a:ln>
        </p:spPr>
      </p:pic>
      <p:pic>
        <p:nvPicPr>
          <p:cNvPr id="384" name="Slika 8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441600" cy="1935360"/>
          </a:xfrm>
          <a:prstGeom prst="rect">
            <a:avLst/>
          </a:prstGeom>
          <a:ln w="0">
            <a:noFill/>
          </a:ln>
        </p:spPr>
      </p:pic>
      <p:pic>
        <p:nvPicPr>
          <p:cNvPr id="385" name="Slika 9" descr=""/>
          <p:cNvPicPr/>
          <p:nvPr/>
        </p:nvPicPr>
        <p:blipFill>
          <a:blip r:embed="rId3"/>
          <a:stretch/>
        </p:blipFill>
        <p:spPr>
          <a:xfrm>
            <a:off x="7020000" y="4076640"/>
            <a:ext cx="173664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07960" y="1413000"/>
            <a:ext cx="39355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73e87"/>
                </a:solidFill>
                <a:latin typeface="Candara"/>
              </a:rPr>
              <a:t>Edukovanje građana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(76 500 putem medija, 19 500 na letnjim događanjima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Obeležavanje Međunarodnog dana reke Drav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Konferencija - 20. 9. 2018. – </a:t>
            </a:r>
            <a:r>
              <a:rPr b="1" lang="hr-HR" sz="2000" spc="-1" strike="noStrike" u="sng">
                <a:solidFill>
                  <a:srgbClr val="073e87"/>
                </a:solidFill>
                <a:uFillTx/>
                <a:latin typeface="Candara"/>
              </a:rPr>
              <a:t>predstavnici nacionalne, regionalne i lokalne samouprave (70 učesnika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održana prezentacija MOS-Cro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distribucija letak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redstavnici medij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AFF6-494A-489A-8543-48F22D3AC7F2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0" name="Slika 6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211640" cy="2806920"/>
          </a:xfrm>
          <a:prstGeom prst="rect">
            <a:avLst/>
          </a:prstGeom>
          <a:ln w="0">
            <a:noFill/>
          </a:ln>
        </p:spPr>
      </p:pic>
      <p:pic>
        <p:nvPicPr>
          <p:cNvPr id="391" name="Slika 8" descr=""/>
          <p:cNvPicPr/>
          <p:nvPr/>
        </p:nvPicPr>
        <p:blipFill>
          <a:blip r:embed="rId2"/>
          <a:stretch/>
        </p:blipFill>
        <p:spPr>
          <a:xfrm>
            <a:off x="6948360" y="4581360"/>
            <a:ext cx="15354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Candara"/>
              </a:rPr>
              <a:t>Obeležavanje Međunarodnog dana reke Drav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2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kovano 1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Rezervirano mjesto datuma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8BF-2B26-44DE-A523-DD22E92917BA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7" name="Slika 6" descr=""/>
          <p:cNvPicPr/>
          <p:nvPr/>
        </p:nvPicPr>
        <p:blipFill>
          <a:blip r:embed="rId1"/>
          <a:stretch/>
        </p:blipFill>
        <p:spPr>
          <a:xfrm>
            <a:off x="6411960" y="1986120"/>
            <a:ext cx="2374920" cy="3620880"/>
          </a:xfrm>
          <a:prstGeom prst="rect">
            <a:avLst/>
          </a:prstGeom>
          <a:ln w="0">
            <a:noFill/>
          </a:ln>
        </p:spPr>
      </p:pic>
      <p:pic>
        <p:nvPicPr>
          <p:cNvPr id="398" name="Slika 7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38466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21. Osječki jesenji saja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7600" y="2477880"/>
            <a:ext cx="29718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Trodnevno događan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5. - 7. 10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kovano </a:t>
            </a:r>
            <a:r>
              <a:rPr b="0" lang="hr-HR" sz="2400" spc="-1" strike="noStrike">
                <a:solidFill>
                  <a:srgbClr val="ff0000"/>
                </a:solidFill>
                <a:latin typeface="Candara"/>
              </a:rPr>
              <a:t>17 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2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856A-C161-4587-B122-B091A5DC0EB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3" name="Slika 6" descr=""/>
          <p:cNvPicPr/>
          <p:nvPr/>
        </p:nvPicPr>
        <p:blipFill>
          <a:blip r:embed="rId1"/>
          <a:stretch/>
        </p:blipFill>
        <p:spPr>
          <a:xfrm>
            <a:off x="6970680" y="1268280"/>
            <a:ext cx="2158920" cy="2880000"/>
          </a:xfrm>
          <a:prstGeom prst="rect">
            <a:avLst/>
          </a:prstGeom>
          <a:ln w="0">
            <a:noFill/>
          </a:ln>
        </p:spPr>
      </p:pic>
      <p:pic>
        <p:nvPicPr>
          <p:cNvPr id="404" name="Slika 7" descr=""/>
          <p:cNvPicPr/>
          <p:nvPr/>
        </p:nvPicPr>
        <p:blipFill>
          <a:blip r:embed="rId2"/>
          <a:stretch/>
        </p:blipFill>
        <p:spPr>
          <a:xfrm>
            <a:off x="4851360" y="1414440"/>
            <a:ext cx="1860480" cy="3308400"/>
          </a:xfrm>
          <a:prstGeom prst="rect">
            <a:avLst/>
          </a:prstGeom>
          <a:ln w="0">
            <a:noFill/>
          </a:ln>
        </p:spPr>
      </p:pic>
      <p:pic>
        <p:nvPicPr>
          <p:cNvPr id="405" name="Slika 8" descr=""/>
          <p:cNvPicPr/>
          <p:nvPr/>
        </p:nvPicPr>
        <p:blipFill>
          <a:blip r:embed="rId3"/>
          <a:stretch/>
        </p:blipFill>
        <p:spPr>
          <a:xfrm>
            <a:off x="7157880" y="3394080"/>
            <a:ext cx="138276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FILM KOMARCI_HRVATSKI_HD_1080p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80440" cy="4713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eduka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tivni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 video 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1000" y="333000"/>
            <a:ext cx="88664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Suzbijanje komaraca u prekograničnom području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MOS-Cross 2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1. mart 2019. </a:t>
            </a:r>
            <a:r>
              <a:rPr b="0" lang="hr-HR" sz="3300" spc="-1" strike="noStrike">
                <a:solidFill>
                  <a:srgbClr val="ffffff"/>
                </a:solidFill>
                <a:latin typeface="Candara"/>
                <a:ea typeface="MS Mincho"/>
              </a:rPr>
              <a:t>– 28. februar 2021.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6080" y="2679480"/>
            <a:ext cx="7856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Brodsko-posav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remska Mitrovic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ednost projekta 990 273,2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Budžet ZZJZ-a 255 912,1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0" name="Slika 2" descr=""/>
          <p:cNvPicPr/>
          <p:nvPr/>
        </p:nvPicPr>
        <p:blipFill>
          <a:blip r:embed="rId1"/>
          <a:stretch/>
        </p:blipFill>
        <p:spPr>
          <a:xfrm>
            <a:off x="6732720" y="6296040"/>
            <a:ext cx="2411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Planirani rezultati projek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988640"/>
            <a:ext cx="8642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mapiranje legal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PŽ: 70 000 stanovnika, Vojvodina 150 000 stanovnik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oširenje mape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 projekta MOS-Cross (područje i obim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ICT alat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rada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aplikacije za mobilne telefone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uzorkov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na prisutnost patogena i invazivnih vrsta komaraca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ažuriranje protokola novim patogenim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denga, čikungunja, malarija) i invazivnim vrstama komarac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zajednički protokol za spremnost u slučaju izbijanja epidemij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edukov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dece i štićenika domova </a:t>
            </a: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a stare i nemoćne i članova </a:t>
            </a:r>
            <a:r>
              <a:rPr b="1" lang="sr-Latn-RS" sz="1800" spc="-1" strike="noStrike">
                <a:solidFill>
                  <a:srgbClr val="073e87"/>
                </a:solidFill>
                <a:latin typeface="Candara"/>
              </a:rPr>
              <a:t>penzionerskih udruženj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odela ovipozicionih klopki stanovništvu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00 domaćinstava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trening javnozdravstvenih radnik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svetleće ploče za suzbijanje komarac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 u Osijeku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3" name="Slika 3" descr=""/>
          <p:cNvPicPr/>
          <p:nvPr/>
        </p:nvPicPr>
        <p:blipFill>
          <a:blip r:embed="rId1"/>
          <a:stretch/>
        </p:blipFill>
        <p:spPr>
          <a:xfrm>
            <a:off x="6656400" y="6313320"/>
            <a:ext cx="2487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"/>
          <p:cNvSpPr/>
          <p:nvPr/>
        </p:nvSpPr>
        <p:spPr>
          <a:xfrm>
            <a:off x="-70200" y="903240"/>
            <a:ext cx="91540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a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8" name="Elipsa 1"/>
          <p:cNvSpPr/>
          <p:nvPr/>
        </p:nvSpPr>
        <p:spPr>
          <a:xfrm>
            <a:off x="3276720" y="2852640"/>
            <a:ext cx="1726920" cy="647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Elipsa 6"/>
          <p:cNvSpPr/>
          <p:nvPr/>
        </p:nvSpPr>
        <p:spPr>
          <a:xfrm>
            <a:off x="5364000" y="2421000"/>
            <a:ext cx="936720" cy="72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0" name="Elipsa 7"/>
          <p:cNvSpPr/>
          <p:nvPr/>
        </p:nvSpPr>
        <p:spPr>
          <a:xfrm>
            <a:off x="6372360" y="3068640"/>
            <a:ext cx="1079280" cy="865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1" name="Elipsa 8"/>
          <p:cNvSpPr/>
          <p:nvPr/>
        </p:nvSpPr>
        <p:spPr>
          <a:xfrm>
            <a:off x="1795320" y="3689280"/>
            <a:ext cx="2416320" cy="46044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Elipsa 9"/>
          <p:cNvSpPr/>
          <p:nvPr/>
        </p:nvSpPr>
        <p:spPr>
          <a:xfrm>
            <a:off x="6443640" y="4005360"/>
            <a:ext cx="1152720" cy="5760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Slika 5" descr=""/>
          <p:cNvPicPr/>
          <p:nvPr/>
        </p:nvPicPr>
        <p:blipFill>
          <a:blip r:embed="rId1"/>
          <a:stretch/>
        </p:blipFill>
        <p:spPr>
          <a:xfrm>
            <a:off x="5364000" y="4032360"/>
            <a:ext cx="3495960" cy="2824200"/>
          </a:xfrm>
          <a:prstGeom prst="rect">
            <a:avLst/>
          </a:prstGeom>
          <a:ln w="0">
            <a:noFill/>
          </a:ln>
        </p:spPr>
      </p:pic>
      <p:pic>
        <p:nvPicPr>
          <p:cNvPr id="424" name="Slika 6" descr=""/>
          <p:cNvPicPr/>
          <p:nvPr/>
        </p:nvPicPr>
        <p:blipFill>
          <a:blip r:embed="rId2"/>
          <a:srcRect l="41009" t="0" r="31432" b="0"/>
          <a:stretch/>
        </p:blipFill>
        <p:spPr>
          <a:xfrm>
            <a:off x="179280" y="189000"/>
            <a:ext cx="3178440" cy="6480000"/>
          </a:xfrm>
          <a:prstGeom prst="rect">
            <a:avLst/>
          </a:prstGeom>
          <a:ln w="0">
            <a:noFill/>
          </a:ln>
        </p:spPr>
      </p:pic>
      <p:pic>
        <p:nvPicPr>
          <p:cNvPr id="425" name="Slika 1" descr=""/>
          <p:cNvPicPr/>
          <p:nvPr/>
        </p:nvPicPr>
        <p:blipFill>
          <a:blip r:embed="rId3"/>
          <a:stretch/>
        </p:blipFill>
        <p:spPr>
          <a:xfrm>
            <a:off x="6168960" y="0"/>
            <a:ext cx="2975040" cy="692280"/>
          </a:xfrm>
          <a:prstGeom prst="rect">
            <a:avLst/>
          </a:prstGeom>
          <a:ln w="0">
            <a:noFill/>
          </a:ln>
        </p:spPr>
      </p:pic>
      <p:sp>
        <p:nvSpPr>
          <p:cNvPr id="426" name="Pravokutnik 2"/>
          <p:cNvSpPr/>
          <p:nvPr/>
        </p:nvSpPr>
        <p:spPr>
          <a:xfrm>
            <a:off x="3635280" y="620640"/>
            <a:ext cx="49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Uređaj emituje u okolinu smesu koja sadrži mlečnu kiselinu i CO₂  i na taj način privlači komarc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Kombinacijom dvaju atraktanata privlači komarce, a flourescentno svetlo poboljšava privlačenje komaraca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Jednom privučeni, komarci ostaju zarobljeni unutar ploče i na kraju uginu od dehidratacij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Reklame se postavljaju na pažljivo odabrana mesta gde se ljudi ne zadržavaju kako ne bi dobili kontra efekt – 10 lokacija/partner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Mosquito killer billboard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6080" y="2679480"/>
            <a:ext cx="8072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https://www.youtube.com/watch?v=M1kpjGeimdk&amp;t=11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9" name="M1kpjGeimdk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80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Slika 5" descr=""/>
          <p:cNvPicPr/>
          <p:nvPr/>
        </p:nvPicPr>
        <p:blipFill>
          <a:blip r:embed="rId1"/>
          <a:stretch/>
        </p:blipFill>
        <p:spPr>
          <a:xfrm>
            <a:off x="5148360" y="4505400"/>
            <a:ext cx="2981160" cy="22366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58752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Komar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55640" y="1628640"/>
            <a:ext cx="489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RH prisutno 5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OBŽ – 2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značajniji vektor – 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Culex pipien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bro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j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ija vrsta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des vexans (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više od 90%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nvazivne vrste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.albopictus; Ae. japonicu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ci su osim molestanata i prenos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io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ci zaraznih bolesti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https://www.youtube.com/watch?v=rD8SmacBUc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e poznaju granic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619920" indent="-31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Rezervirano mjesto sadržaja 4" descr=""/>
          <p:cNvPicPr/>
          <p:nvPr/>
        </p:nvPicPr>
        <p:blipFill>
          <a:blip r:embed="rId2"/>
          <a:stretch/>
        </p:blipFill>
        <p:spPr>
          <a:xfrm>
            <a:off x="6262560" y="1736640"/>
            <a:ext cx="2630520" cy="26290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pic>
        <p:nvPicPr>
          <p:cNvPr id="351" name="Slika 3" descr=""/>
          <p:cNvPicPr/>
          <p:nvPr/>
        </p:nvPicPr>
        <p:blipFill>
          <a:blip r:embed="rId3"/>
          <a:stretch/>
        </p:blipFill>
        <p:spPr>
          <a:xfrm>
            <a:off x="0" y="6276960"/>
            <a:ext cx="2490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Hvala na pažnji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4" name="Slika 1" descr=""/>
          <p:cNvPicPr/>
          <p:nvPr/>
        </p:nvPicPr>
        <p:blipFill>
          <a:blip r:embed="rId1"/>
          <a:stretch/>
        </p:blipFill>
        <p:spPr>
          <a:xfrm>
            <a:off x="3013200" y="3141720"/>
            <a:ext cx="311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-69840" y="903240"/>
            <a:ext cx="91537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</a:t>
            </a:r>
            <a:r>
              <a:rPr b="0" i="1" lang="en-US" sz="2100" spc="-1" strike="noStrike">
                <a:solidFill>
                  <a:srgbClr val="ffffff"/>
                </a:solidFill>
                <a:latin typeface="Candara"/>
              </a:rPr>
              <a:t>a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1120" y="404640"/>
            <a:ext cx="885672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Suzbijanje komaraca u prekograničnom području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15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MS Mincho"/>
              </a:rPr>
              <a:t>jul</a:t>
            </a: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 2017. – 14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MS Mincho"/>
              </a:rPr>
              <a:t>oktobar</a:t>
            </a: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 2019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6046920" y="5632560"/>
            <a:ext cx="2712960" cy="534960"/>
          </a:xfrm>
          <a:prstGeom prst="rect">
            <a:avLst/>
          </a:prstGeom>
          <a:ln w="0">
            <a:noFill/>
          </a:ln>
        </p:spPr>
      </p:pic>
      <p:pic>
        <p:nvPicPr>
          <p:cNvPr id="358" name="Slika 22" descr=""/>
          <p:cNvPicPr/>
          <p:nvPr/>
        </p:nvPicPr>
        <p:blipFill>
          <a:blip r:embed="rId2"/>
          <a:stretch/>
        </p:blipFill>
        <p:spPr>
          <a:xfrm>
            <a:off x="534960" y="55166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9"/>
          <p:cNvSpPr/>
          <p:nvPr/>
        </p:nvSpPr>
        <p:spPr>
          <a:xfrm>
            <a:off x="1155600" y="5665680"/>
            <a:ext cx="90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800" spc="-1" strike="noStrike">
                <a:solidFill>
                  <a:srgbClr val="2862aa"/>
                </a:solidFill>
                <a:latin typeface="Candara"/>
              </a:rPr>
              <a:t>Zavod za javno zdravlje Sombor</a:t>
            </a:r>
            <a:endParaRPr b="0" lang="en-US" sz="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Slika 20" descr=""/>
          <p:cNvPicPr/>
          <p:nvPr/>
        </p:nvPicPr>
        <p:blipFill>
          <a:blip r:embed="rId3"/>
          <a:stretch/>
        </p:blipFill>
        <p:spPr>
          <a:xfrm>
            <a:off x="2274840" y="5472000"/>
            <a:ext cx="1579680" cy="708120"/>
          </a:xfrm>
          <a:prstGeom prst="rect">
            <a:avLst/>
          </a:prstGeom>
          <a:ln w="0">
            <a:noFill/>
          </a:ln>
        </p:spPr>
      </p:pic>
      <p:pic>
        <p:nvPicPr>
          <p:cNvPr id="361" name="Slika 25" descr=""/>
          <p:cNvPicPr/>
          <p:nvPr/>
        </p:nvPicPr>
        <p:blipFill>
          <a:blip r:embed="rId4"/>
          <a:stretch/>
        </p:blipFill>
        <p:spPr>
          <a:xfrm>
            <a:off x="4311720" y="5519880"/>
            <a:ext cx="1278000" cy="664920"/>
          </a:xfrm>
          <a:prstGeom prst="rect">
            <a:avLst/>
          </a:prstGeom>
          <a:ln w="0">
            <a:noFill/>
          </a:ln>
        </p:spPr>
      </p:pic>
      <p:sp>
        <p:nvSpPr>
          <p:cNvPr id="362" name="Rezervirano mjesto sadržaja 1"/>
          <p:cNvSpPr/>
          <p:nvPr/>
        </p:nvSpPr>
        <p:spPr>
          <a:xfrm>
            <a:off x="609480" y="1989000"/>
            <a:ext cx="792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ednost projekta 982 167,50 EUR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ud</a:t>
            </a:r>
            <a:r>
              <a:rPr b="0" lang="sr-Latn-RS" sz="2400" spc="-1" strike="noStrike">
                <a:solidFill>
                  <a:srgbClr val="073e87"/>
                </a:solidFill>
                <a:latin typeface="Candara"/>
              </a:rPr>
              <a:t>žet</a:t>
            </a: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 ZZJZ-a 377 372,00 EU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9280" y="2636640"/>
            <a:ext cx="8785440" cy="50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73e87"/>
                </a:solidFill>
                <a:latin typeface="Candara"/>
              </a:rPr>
              <a:t>Mapa legla </a:t>
            </a: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komaraca (ukupno 80 376,61 ha, 23 489 ha u OBŽ-u)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lvl="1" marL="64440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Zapadna Bačka: 188 000 stanovnika, OBŽ: 305 000 stanovnika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Slika 3" descr=""/>
          <p:cNvPicPr/>
          <p:nvPr/>
        </p:nvPicPr>
        <p:blipFill>
          <a:blip r:embed="rId1"/>
          <a:stretch/>
        </p:blipFill>
        <p:spPr>
          <a:xfrm>
            <a:off x="6961320" y="6346800"/>
            <a:ext cx="2195280" cy="51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6399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CT alat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baza podatak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ntegrisani sistem za praćenje i rano uzbunjivan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Javno dostupan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Obučeni lokalni javnozdravstveni stručnjaci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po 10 iz svakog Zavoda) u okviru 5 trening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Protokol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za nadziranje prisutnosti 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aca u prekograničnom područj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uzorkovanja i testiranj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- virus Zika i virus Zapadnog Nil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1200 uzoraka u OBŽ-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>
              <a:spcBef>
                <a:spcPts val="5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4132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Od maja do oktobra 2018. i 2019. godin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CDC klopke na 25 stan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BG Sentinel na 25 stan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Candara"/>
              </a:rPr>
              <a:t>Uzorkovanje komarac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Slika 3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33721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71640" y="2133720"/>
            <a:ext cx="74088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4-satna rotirajuća klopka na 10 stan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Slika 5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43480" cy="3525840"/>
          </a:xfrm>
          <a:prstGeom prst="rect">
            <a:avLst/>
          </a:prstGeom>
          <a:ln w="0">
            <a:noFill/>
          </a:ln>
        </p:spPr>
      </p:pic>
      <p:pic>
        <p:nvPicPr>
          <p:cNvPr id="375" name="Slika 6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26258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87280" y="2204640"/>
            <a:ext cx="8569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u prekograničnom područj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zrađen zajednički </a:t>
            </a:r>
            <a:r>
              <a:rPr b="1" lang="hr-HR" sz="2000" spc="-1" strike="noStrike">
                <a:solidFill>
                  <a:srgbClr val="073e87"/>
                </a:solidFill>
                <a:latin typeface="Candara"/>
              </a:rPr>
              <a:t>protokol za spremnost u slučaju izbijanja epidemija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kovanje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dece i štićenika domov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za stare i nemoćne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 osnovnih škola – 2198 + 2 staračka doma – 95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ka</a:t>
            </a:r>
            <a:r>
              <a:rPr b="1" lang="en-US" sz="2100" spc="-1" strike="noStrike">
                <a:solidFill>
                  <a:srgbClr val="073e87"/>
                </a:solidFill>
                <a:latin typeface="Candara"/>
              </a:rPr>
              <a:t>tivni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 video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odela BTI granul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za larvicidno tretiranje komaraca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00 domaćinstava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a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nternet stranica </a:t>
            </a:r>
            <a:r>
              <a:rPr b="1" lang="en-GB" sz="21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www.moscross.eu/hr/pocetna/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https://megaupload.nz/ReL0W7r0bc/FILM_KOMARCI_HRVATSKI_HD_1080p_mp4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6T07:16:14Z</dcterms:created>
  <dc:creator>zzjz-na</dc:creator>
  <dc:description/>
  <dc:language>en-US</dc:language>
  <cp:lastModifiedBy>Aleksandar Loncar</cp:lastModifiedBy>
  <cp:lastPrinted>2019-05-24T05:49:53Z</cp:lastPrinted>
  <dcterms:modified xsi:type="dcterms:W3CDTF">2019-07-14T10:43:23Z</dcterms:modified>
  <cp:revision>118</cp:revision>
  <dc:subject/>
  <dc:title>PowerPointova prezentacija</dc:title>
</cp:coreProperties>
</file>