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F5A4-D930-400C-A372-035A9336D2EE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70% oboljelih u 11 država –od kojih je 10 u Afric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D063-5366-4556-9116-E686317AA6B3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P. Knowlesi – šumska područja jugoistočne Azije (uzročnik tzv. mankey malari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37D2-1611-4D6A-A3C0-75B7022F8D07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CDC - 3 milijarde ljudi živi u područjima visokog rizika od dengu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4FBC-4E84-46EB-83F0-34328A9D4874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BD8B-7C4F-429B-BCEF-A845C43F9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3922-3494-477A-8510-39E5AE14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679C-18DD-452D-948B-F6BA7B4E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EACE-0781-46B9-825C-40C027E15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417B-F5E5-470C-A2FC-1D1C9584F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E6A4-CFB8-4860-8C42-4DE0E384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5A2D-A284-4CC8-B1D8-2FEBBC0C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F1AC-0ED6-40A6-AC98-453D3576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531B-5E7C-4E59-AFDF-71A3E2BB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BC72-5901-4145-93B9-EBB23488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2310-0F18-4AD6-9BB6-DC2824B2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03BD-E6B2-4E44-923F-7C658DFD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052A-88AE-41EF-8CA6-9139F1A4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2275-FCA6-4C91-86E6-B6EEFDD9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3129-567B-4526-ADC9-45F6E8CC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66F9-507B-406C-A67A-D7FD34A97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D992-12C7-4266-9861-CA4275200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B934-889A-479C-AFDB-275D6096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69AE-C2AE-4BCF-8E2D-968ACDAE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1754-E581-47BE-B0A3-D9982CA0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88C0-30FD-41C1-882C-A7F2D4FD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1458-E6CC-4AE3-B4FA-980AB4CA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B4C2-E258-4506-9CF6-C471EB2E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3C47-2267-4CB0-8011-3B4AA8FD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F14E-878B-4331-B2C3-C2DC8E322E85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DC99-8C76-4093-BB37-E97E756CBEE7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7308720" cy="230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KTORSKE BOLESTI </a:t>
            </a:r>
            <a:br>
              <a:rPr sz="4800"/>
            </a:br>
            <a:r>
              <a:rPr b="1" lang="hr-H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OMARCI </a:t>
            </a:r>
            <a:br>
              <a:rPr sz="4400"/>
            </a:b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042560" y="2491920"/>
            <a:ext cx="6248520" cy="14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Times New Roman"/>
              </a:rPr>
              <a:t>dr.sc. Tomislav Dijanić, dr. med.</a:t>
            </a:r>
            <a:br>
              <a:rPr sz="1700"/>
            </a:br>
            <a:r>
              <a:rPr b="1" lang="hr-HR" sz="1700" spc="-1" strike="noStrike">
                <a:solidFill>
                  <a:srgbClr val="000000"/>
                </a:solidFill>
                <a:latin typeface="Times New Roman"/>
              </a:rPr>
              <a:t>spec. epidemiolo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Osijek, svibanj 201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17236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GUA GROZNICA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1267920"/>
            <a:ext cx="91440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JAGNOZ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za vrijeme epidemije laka - klinička sl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zolacija i detekcija nukleinske kiselin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u praksi najčešće se provodi serološka dijagnost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JEČEN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pecifično liječenje ne postoj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ovisi o simptomima (jednostavna per os nadoknada tekućine, hospitalizacija s iv. nadoknadom tekućine i transfuzijom krvi, paracetamol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22040"/>
            <a:ext cx="810108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KA VIRUSNA INFEKCIJA</a:t>
            </a:r>
            <a:endParaRPr b="1" lang="en-US" sz="4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1125360"/>
            <a:ext cx="91440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IJ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virus prvi puta izoliran 1947. god. u majmunu u Ugandi, a slijedeće godine na istom mjestu (šuma Zika) detektiran u komarcima roda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vi slučaj infekcije čovjeka zabilježen je u Nigeriji 1952. go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olest obično traje 4-7 dana i prolazi bez teških komplikacija i smrtnih ishoda, a hospitalizacija je rijet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glavni vektori su komarci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aegypti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albopict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817236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KA VIRUSNA INFEKCIJA</a:t>
            </a:r>
            <a:endParaRPr b="1" lang="en-US" sz="4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1557360"/>
            <a:ext cx="91440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o 2007. god. zabilježeno nekoliko epidemija na području tropske Afrike i jugoistočne Azi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od travnja do srpnja 2007. god. zabilježena prva epidemija na otoku Yap u Mikroneziji, a između 2013. i 2015. god. nekoliko epidemija na otocima Pacifika i francuskoj Polinezij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817236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KA VIRUSNA INFEKCIJA</a:t>
            </a:r>
            <a:endParaRPr b="1" lang="en-US" sz="4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1267920"/>
            <a:ext cx="91440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od travnja 2015. god. i pojave Zika virusa u Brazilu do 2017. god. epidemija se širi na sjevernu i južnu Ameriku, a oboljelih je bilo i u zemljama na ostalim kontinentim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iječanj 2016. god. preporuka CDC-a o odgađanju putovanja u zemlje sa zabilježenim epidemija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VATS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016. dokazani prvi importirani klinički slučajevi infekcije kod povratnika iz endemskih područj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817236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KA VIRUSNA INFEKCIJA</a:t>
            </a:r>
            <a:endParaRPr b="1" lang="en-US" sz="4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1341360"/>
            <a:ext cx="91440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ZROČNI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ka virus,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NA virus iz porodice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viviridae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KUBAC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znosi 3-12 da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NIČKA SL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u 60-80% slučajeva asimptomatska infekcija (1: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u oko 20% zaraženih javlja se blaža akutna febrilna bolest s osipom, artralgijom, mialgijom, konjuk-tivitisom, glavoboljom te rjeđe retroorbitalnom boli i gastrointestinalnim simptomi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122040"/>
            <a:ext cx="817236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KA VIRUSNA INFEKCIJA</a:t>
            </a:r>
            <a:endParaRPr b="1" lang="en-US" sz="4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1341360"/>
            <a:ext cx="91440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ovezanost s teškim neurološkim poremećajim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Guillain-Barréov sindrom i druge neurološke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likacije u odraslih (73 slučaja u epidemiji u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ncuskoj Polineziji na populaciju od 270 tisuća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itelja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kongenitalni Zika sindrom (mikrocefalija i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e kongenitalne malformacije mozga) u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tusa i dojenčadi te prijevremeni porođaj i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bačaj že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122040"/>
            <a:ext cx="810108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KA VIRUSNA INFEKCIJA</a:t>
            </a:r>
            <a:endParaRPr b="1" lang="en-US" sz="4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1267920"/>
            <a:ext cx="91440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JAGNOZ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etekcija virusne RNA u kliničkim uzorcima akutno bolesnih osoba unutar 3-5 dana od pojave simptoma (relativno kratka viremij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erološka dijagnostika (akutna infekcija - detekcija IgM ili 4x porast titra IgG u parnom serumu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JEČENJ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imptomatsko (primjena analgetika, antipiretika, antihistaminika), cjepiva ne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817236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ZNICA ZAPADNOG NIL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0" y="1341360"/>
            <a:ext cx="91440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IJ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virus u prirodi cirkulira između ptica selica (rezervoara) i vektora komarca najčešće roda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lex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i prenosi infekciju na ljude, konje i druge sisavce (krajnji domaćini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zbijanje epidemija najčešće prati glavne migracijske rute pt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virus proširen po Africi, Europi, Bliskom istoku, Sjevernoj Americi, zapadnoj Aziji i Australij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82440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ZNICA ZAPADNOG NIL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1125360"/>
            <a:ext cx="91440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rva izolacija u uzorku kod žene iz regije Zapadnog Nila u Ugandi 1937. go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epidemije: 1957. Izrael; 1999. New Yorku/SAD, bolest zabilježena i u Rusij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OP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rvi oboljeli u Francuskoj 1962.-1963. go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zadnjih 20 godina brojni slučajevi na Mediteranu, Rumunjskoj i okruženju RH (Italija, Mađarska, Srbija)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82440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ZNICA ZAPADNOG NIL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1341360"/>
            <a:ext cx="91440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VATS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irkulacija virusa otprije detektirana u populaciji kon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rvi slučajevi infekcije u ljudi zabilježeni u istočnoj Slavoniji 2012. go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ZROČNI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 Zapadnog Nila,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NA virus iz porodice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viviridae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VOD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181440" y="1754280"/>
            <a:ext cx="9325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KTORSKE (TRANSMISIVNE) BOLEST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virusi, bakterije, rikecije, protozoe… prenose se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čovjeka posredno putem vektora, odnosno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atofagnih insekata (komarci, krpelji, nevidi,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ši, buhe i sl.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komarc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najvažnija hematofagna skupina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kac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hrane se na čovjeku i drugim sisavcima,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icama i gmazovi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81723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ZNICA ZAPADNOG NIL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980640"/>
            <a:ext cx="91440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KUBAC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znosi 2-15 dan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NIČKA SL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u 70-80% slučajeva infekcija asimptomatsk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kod oko 20% inficiranih blagi simptomi bolesti nalik gripi koji se povlače u roku 3-6 dan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eningitis, encefalitis ili poliomijelitis - najteži oblici, razviju se u oko 1% inficiranih sa smrtnim ishodom u 4-14%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:150 zaraženih razvije teški oblik bolesti sa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rtnim ishod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82440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ZNICA ZAPADNOG NIL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1196640"/>
            <a:ext cx="91440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JAGNOZ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etekcija virusne RNA (PC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erološka dokazivanje IgM protutije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JEČEN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iječenje po potrebi simptomatsko, cjepiva za sada ne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122040"/>
            <a:ext cx="817236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KUNGUNYA GROZNIC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341360"/>
            <a:ext cx="91440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IJ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olest koju prenose komarci roda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des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53. god. prva izolacija virusa u Tanganjiki u Tanzaniji iz seruma febrilne osob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004. god. epidemija se iz istočne Afrike proširila u Indiju i jugoistočnu Aziju - nekoliko milijuna oboljeli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anas - rasprostranjena na otocima Indijskog oceana (Reunion), jugoistočnoj i južnoj Aziji, tropskim područjima Amerike, Afri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122040"/>
            <a:ext cx="810108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KUNGUNYA GROZNIC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1196640"/>
            <a:ext cx="91440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OP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979. god.  u Albaniji prvo pojavljivanje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grastog komarca (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des albopictu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990. god. unesen rabljenim gumama u Italiju i brzo se proširio po velikom dijelu Euro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007. god. sa širenjem ovoga komarca, izbila je epidemija (preko 200 oboljelih) u sjeveroistočnim dijelovima Itali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010. i 2014. god. registrirani su oboljeli u Francusko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122040"/>
            <a:ext cx="817236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KUNGUNYA GROZNIC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1341360"/>
            <a:ext cx="91440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VATS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od 2004. god. tigrasti komarac udomaćio se u RH, a 2016. dokazan prvi importirani klinički slučaj infekcije kod povratnika iz endemskih područ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ZROČNI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kungunya virus,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NA virus iz porodice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gavirid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122040"/>
            <a:ext cx="810108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KUNGUNYA GROZNIC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196640"/>
            <a:ext cx="91440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KUBAC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znosi 2-12 da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NIČKA SL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najčešće se prvo javlja vrućica (39-40°C), zatim bolovi u zglobovima i mišićima koji mogu trajati mjesecima, glavobolja, slabost, u 50% oboljelih osi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većina oboljelih se oporavi bez posljedica, rijetko se javljaju komplikacije sa smrtnim ishodo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122040"/>
            <a:ext cx="824400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KUNGUNYA GROZNIC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1341360"/>
            <a:ext cx="91440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JAGNOZ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etekcija virusne RNA (PC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erološka dokazivanje IgM protutije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JEČEN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nema specifičnog lijeka niti dostupnog cjep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kontrola vektora komaraca za sada najučinkovitiji način kontrole širenja boles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10108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KLJUČAK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980640"/>
            <a:ext cx="91440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rije - uloga komaraca kao vektora zaraznih bolesti isključivo vezana za tropska/suptropska područ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zadnjih 20-tak godina situacija se značajno izmijenila - uzrok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globalizacija, povećani opseg trgovine i dalekih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tovanja, nastavak urbanizacije, klimatske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je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romjene uvjeta u staništima uzrok su pojave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udomaćivanja novih vrsta a s njima kao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ktorima i pojave novih  do sada „egzotičnih“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est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810108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KLJUČAK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1196640"/>
            <a:ext cx="91440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ne zapostaviti nadzor nad iskorijenjenim bolestima, jer se one mogu ponovo vrati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raćenje i nadzor vektora, rano otkrivanje slučajeva infekcija ljudi (sukladno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đunarodnim zdravstvenim propisima (IHR2005)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hrvatskom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konu o zaštiti pučanstva od zaraznih bolesti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bitni za sprečavanje ponovnog unosa i udomaćivanja komaraca te širenja bolesti koje nos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Times New Roman"/>
              </a:rPr>
              <a:t>H V A L A   !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ARIJA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907920"/>
            <a:ext cx="91440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IJ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19 milijuna oboljelih (2017.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ropska i suptropska Afrika, jugoistočna Azija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ednja i južna Amerika, južni Pacifik i istočni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ter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oko 435 000 umrlih (većinom djeca &lt;5 godin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VATSK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zadnji autohtoni slučaj 1954. god. (Šibeni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alarično područje činilo 80% površine RH u kojem je živjelo 90% populacij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anas se bilježe samo importirani slučajev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00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ARIJA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0" y="1483920"/>
            <a:ext cx="91440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ZROČNI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5 vrsta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odiuma (P. ovale; P. vivax; P. malariae; P. falciparum, P. knowles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KUBACIJ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ovisi o vrsti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odiuma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kreće se od 9 dana (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. falciparum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o 1 mjesec ili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lje (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. malariae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00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ARIJA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1341360"/>
            <a:ext cx="91440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NIČKA SL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eriodična vrućica, tresavica, preznojavanje, žutica, hemolitička anemija, hepato/splenomegalija,  malarijski paroksiz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JAGNOZ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nalaz uzročnika u razmazu periferne krv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JEČENJE I PROFILAKS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ovisi o vrsti i osjetljivosti uzročnika na lij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azne vrste antimalarik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80010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GUA GROZNICA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1125360"/>
            <a:ext cx="91440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IJ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0 x porasla incidencija u zadnjih 50 godin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rimarni vektor komarac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des aegypti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u RH azijski tigrasti komarac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des albopict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godišnje 400 miliona inficiranih / 100 miliona oboljelih / 22 000 umrli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endemska bolest u jugoistočnoj Aziji, zapadnoj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rici, Oceaniji, Australiji, južnoj Ameri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mrtnost iznosi 1-3%, ali može dosegnuti i 5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950. jugoistočna Azija - oboljelo 1,5 milijuna, umrlo 33 tisuće osob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122040"/>
            <a:ext cx="800100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GUA GROZNICA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341360"/>
            <a:ext cx="91440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OP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rancuska 2010., 2013., 2014., 201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ortugal (Madeira) 2012. god. velika epidem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rethodno, zadnja epidemija u Europi zabilježena je  1927. god. u Grčko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VATS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utohtona dengua registrirana je prvi puta u rujnu 2010. god. (Pelješac - 2 oboljelih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122040"/>
            <a:ext cx="800100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GUA GROZNICA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0" y="1699920"/>
            <a:ext cx="91440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ZROČNI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4 različita serotipa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a dengue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NA virus iz porodice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vivirid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KUBAC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znosi 3-10 (15) da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8101080" cy="100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GUA GROZNICA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1196640"/>
            <a:ext cx="91440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NIČKA SL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većina zaraženih bez simptoma ili je bolest slična grip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kod ozbiljnih oblika nastupa naglo sa zimicom, visokom temperaturom, glavoboljom, retro-orbitalnom boli pri pokretima očiju, mialgijom, artralgijom, mučninom, povraćanjem, morbiliformnim osipom i injekcijom konjunk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kod manjeg broja slučajeva razvije se dengua hemoragična groznica ili dengua šok sindrom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07:10:00Z</dcterms:created>
  <dc:creator>korisnik</dc:creator>
  <dc:description/>
  <dc:language>en-US</dc:language>
  <cp:lastModifiedBy>zzjz-he</cp:lastModifiedBy>
  <dcterms:modified xsi:type="dcterms:W3CDTF">2019-07-09T12:28:32Z</dcterms:modified>
  <cp:revision>145</cp:revision>
  <dc:subject/>
  <dc:title>EPIDEMIOLOGIJA HCV INFEKCIJE Tomislav Dijanić, dr. med. spec.epidemiolog</dc:title>
</cp:coreProperties>
</file>