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EE08-650A-43DE-8A9A-935570C01E66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70% oboljelih u 11 država –od kojih je 10 u Afr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0955-8AA7-4C71-8BBC-7797D655C15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. Knowlesi – šumska područja jugoistočne Azije (uzročnik tzv. mankey 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1CB8-98A6-410E-91A3-AABC13C2127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CDC - 3 milijarde ljudi živi u područjima visokog rizika od deng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60EB-6ADB-4E43-BD5F-6DD006D1A6A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35E-47EC-48B6-899F-18FE1124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E8F-E301-49A4-B749-61B9BFE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8A2-602C-44F9-A40B-6C2063D0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6FB-5EC3-4834-AD2F-557E5EBB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0569-C67F-43BE-BBF1-2BC0F35D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A8BA-92A9-43C8-90CC-E637DDB1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107C-9696-43FC-9053-99E2701B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B79E-9AFA-4E0D-9F97-505BE9EF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CA56-17E9-4591-8F04-2C3E5E3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4A5-1C3A-4E05-B702-04010A3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AB9D-F41C-4458-A797-336200B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663-7009-4347-8BA0-93F7ED1A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05B-6163-4500-9447-C692277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A298-EEC9-4A3D-BBD0-556E918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EAC8-EA11-40C2-8671-02CCD46C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898C-0A21-45AD-BD88-054D672F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942E-D03A-4996-8CF9-6400FE12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A0C-BA48-4E0D-B8C3-4D02C7B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7E2-1AF2-4D09-8C5C-22BE52DD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74F-1790-4163-A1FB-2650533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8D3-B97F-46A8-8014-1775BC30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B1E-69E0-4A64-9D7A-1660789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C21-F5AC-44EC-B748-35BABCB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49E-31AE-4B5A-8D20-2BBA10B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DC38-1792-4029-A56A-3EC98D5B56E8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26E3-7BC8-4376-A4E8-9646496692B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30872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BOLESTI </a:t>
            </a:r>
            <a:br>
              <a:rPr sz="4800"/>
            </a:b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MARCI </a:t>
            </a:r>
            <a:br>
              <a:rPr sz="44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42560" y="2491920"/>
            <a:ext cx="624852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dr.sc. Tomislav Dijanić, dr. med.</a:t>
            </a:r>
            <a:br>
              <a:rPr sz="1700"/>
            </a:b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spec. epidemiolo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sijek, svibanj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 vrijeme epidemije laka - 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olacija i detekcija nukleinske kisel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praksi najčešće se provodi serološka dijagnos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pecifično liječenje ne posto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visi o simptomima (jednostavna per os nadoknada tekućine, hospitalizacija s iv. nadoknadom tekućine i transfuzijom krvi, paracetamo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vi puta izoliran 1947. god. u majmunu u Ugandi, a slijedeće godine na istom mjestu (šuma Zika) detektiran u komarcima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 slučaj infekcije čovjeka zabilježen je u Nigeriji 1952. g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obično traje 4-7 dana i prolazi bez teških komplikacija i smrtnih ishoda, a hospitalizacija je rijet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avni vektori su komarc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557360"/>
            <a:ext cx="91440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o 2007. god. zabilježeno nekoliko epidemija na području tropske Afrike i jugoistočne Az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travnja do srpnja 2007. god. zabilježena prva epidemija na otoku Yap u Mikroneziji, a između 2013. i 2015. god. nekoliko epidemija na otocima Pacifika i francuskoj Polinez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travnja 2015. god. i pojave Zika virusa u Brazilu do 2017. god. epidemija se širi na sjevernu i južnu Ameriku, a oboljelih je bilo i u zemljama na ostalim kontinent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ječanj 2016. god. preporuka CDC-a o odgađanju putovanja u zemlje sa zabilježenim epidemij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6. dokazani prvi importirani klinički slučajevi infekcije kod povratnika iz endemskih područ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60-80% slučajeva asimptomatska infekcija (1: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oko 20% zaraženih javlja se blaža akutna febrilna bolest s osipom, artralgijom, mialgijom, konjuk-tivitisom, glavoboljom te rjeđe retroorbitalnom boli i gastrointestinalnim simptom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vezanost s teškim neurološkim poremećaj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uillain-Barréov sindrom i druge neurološ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ikacije u odraslih (73 slučaja u epidemiji u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uskoj Polineziji na populaciju od 270 tisuć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telj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genitalni Zika sindrom (mikrocefalija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e kongenitalne malformacije mozga) u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usa i dojenčadi te prijevremeni porođaj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ačaj ž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A u kliničkim uzorcima akutno bolesnih osoba unutar 3-5 dana od pojave simptoma (relativno kratka virem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ijagnostika (akutna infekcija - detekcija IgM ili 4x porast titra IgG u parnom serumu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mptomatsko (primjena analgetika, antipiretika, antihistaminika), cjepiva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u prirodi cirkulira između ptica selica (rezervoara) i vektora komarca najčešće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ex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enosi infekciju na ljude, konje i druge sisavce (krajnji domaćin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bijanje epidemija najčešće prati glavne migracijske rute p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oširen po Africi, Europi, Bliskom istoku, Sjevernoj Americi, zapadnoj Aziji i Austral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a izolacija u uzorku kod žene iz regije Zapadnog Nila u Ugandi 1937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pidemije: 1957. Izrael; 1999. New Yorku/SAD, bolest zabilježena i u Rus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oboljeli u Francuskoj 1962.-1963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dnjih 20 godina brojni slučajevi na Mediteranu, Rumunjskoj i okruženju RH (Italija, Mađarska, Srbija)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irkulacija virusa otprije detektirana u populaciji ko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slučajevi infekcije u ljudi zabilježeni u istočnoj Slavoniji 2012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Zapadnog Nila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81440" y="1754280"/>
            <a:ext cx="9325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(TRANSMISIVNE) 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i, bakterije, rikecije, protozoe… prenose s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čovjeka posredno putem vektora, odnosn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fagnih insekata (komarci, krpelji, nevidi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ši, buhe i sl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mar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važnija hematofagna skupin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ka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rane se na čovjeku i drugim sisavcima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ama i gmazov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5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70-80% slučajeva infekcija asimptom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ko 20% inficiranih blagi simptomi bolesti nalik gripi koji se povlače u roku 3-6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ningitis, encefalitis ili poliomijelitis - najteži oblici, razviju se u oko 1% inficiranih sa smrtnim ishodom u 4-14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:150 zaraženih razvije teški oblik bolesti s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nim isho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A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e IgM protutij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ječenje po potrebi simptomatsko, cjepiva za sada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koju prenose komarci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. god. prva izolacija virusa u Tanganjiki u Tanzaniji iz seruma febrilne oso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4. god. epidemija se iz istočne Afrike proširila u Indiju i jugoistočnu Aziju - nekoliko milijuna obolje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- rasprostranjena na otocima Indijskog oceana (Reunion), jugoistočnoj i južnoj Aziji, tropskim područjima Amerike, Af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79. god.  u Albaniji prvo pojavljivanj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astog komarc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90. god. unesen rabljenim gumama u Italiju i brzo se proširio po velikom dijelu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7. god. sa širenjem ovoga komarca, izbila je epidemija (preko 200 oboljelih) u sjeveroistočnim dijelovima Ital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0. i 2014. god. registrirani su oboljeli u Francus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2004. god. tigrasti komarac udomaćio se u RH, a 2016. dokazan prvi importirani klinički slučaj infekcije kod povratnika iz endemskih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a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češće se prvo javlja vrućica (39-40°C), zatim bolovi u zglobovima i mišićima koji mogu trajati mjesecima, glavobolja, slabost, u 50% oboljelih os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oboljelih se oporavi bez posljedica, rijetko se javljaju komplikacije sa smrtnim isho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2440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A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e IgM protutij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ma specifičnog lijeka niti dostupnog cjep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trola vektora komaraca za sada najučinkovitiji način kontrole širenja bole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ije - uloga komaraca kao vektora zaraznih bolesti isključivo vezana za tropska/suptropska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dnjih 20-tak godina situacija se značajno izmijenila - uzr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obalizacija, povećani opseg trgovine i dalekih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ovanja, nastavak urbanizacije, klimats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j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mjene uvjeta u staništima uzrok su pojav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domaćivanja novih vrsta a s njima ka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ima i pojave novih  do sada „egzotičnih“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 zapostaviti nadzor nad iskorijenjenim bolestima, jer se one mogu ponovo vrat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aćenje i nadzor vektora, rano otkrivanje slučajeva infekcija ljudi (sukladno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im zdravstvenim propisima (IHR2005)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rvatskom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u o zaštiti pučanstva od zaraznih boles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itni za sprečavanje ponovnog unosa i udomaćivanja komaraca te širenja bolesti koje n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</a:rPr>
              <a:t>H V A L A   !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07920"/>
            <a:ext cx="91440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9 milijuna oboljelih (2017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opska i suptropska Afrika, jugoistočna Azij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i južna Amerika, južni Pacifik i istočn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te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ko 435 000 umrlih (većinom djeca &lt;5 godi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dnji autohtoni slučaj 1954. god. (Šibeni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larično područje činilo 80% površine RH u kojem je živjelo 90% popula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se bilježe samo importirani slučajev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vrst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 (P. ovale; P. vivax; P. malariae; P. falciparum, P. knowle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visi o vrst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reće se od 9 dan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falciparum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o 1 mjesec il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je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malari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eriodična vrućica, tresavica, preznojavanje, žutica, hemolitička anemija, hepato/splenomegalija,  malarijski paroksiz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laz uzročnika u razmazu periferne kr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JEČENJE I PROFILAKS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visi o vrsti i osjetljivosti uzročnika na lij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zne vrste antimalari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0 x porasla incidencija u zadnjih 50 godi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imarni vektor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u RH azijski tigrasti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odišnje 400 miliona inficiranih / 100 miliona oboljelih / 22 000 umr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demska bolest u jugoistočnoj Aziji, zapadnoj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i, Oceaniji, Australiji, južnoj Ame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mrtnost iznosi 1-3%, ali može dosegnuti i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50. jugoistočna Azija - oboljelo 1,5 milijuna, umrlo 33 tisuće osob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rancuska 2010., 2013., 2014., 20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rtugal (Madeira) 2012. god. velika epidem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thodno, zadnja epidemija u Europi zabilježena je  1927. god. u Grč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utohtona dengua registrirana je prvi puta u rujnu 2010. god. (Pelješac - 2 oboljeli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699920"/>
            <a:ext cx="91440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različita serotip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a dengu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NA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0 (15)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A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zaraženih bez simptoma ili je bolest slična gri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zbiljnih oblika nastupa naglo sa zimicom, visokom temperaturom, glavoboljom, retro-orbitalnom boli pri pokretima očiju, mialgijom, artralgijom, mučninom, povraćanjem, morbiliformnim osipom i injekcijom konjunk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manjeg broja slučajeva razvije se dengua hemoragična groznica ili dengua šok sindrom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0:00Z</dcterms:created>
  <dc:creator>korisnik</dc:creator>
  <dc:description/>
  <dc:language>en-US</dc:language>
  <cp:lastModifiedBy>zzjz-he</cp:lastModifiedBy>
  <dcterms:modified xsi:type="dcterms:W3CDTF">2019-07-09T12:28:32Z</dcterms:modified>
  <cp:revision>145</cp:revision>
  <dc:subject/>
  <dc:title>EPIDEMIOLOGIJA HCV INFEKCIJE Tomislav Dijanić, dr. med. spec.epidemiolog</dc:title>
</cp:coreProperties>
</file>