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9948-F878-4456-A89D-9A1FD062B33A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70% obolelih u 11 država –od kojih je 10 u Afri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5E65-CB8F-43D5-B614-86BAF6A3960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. Knowlesi – šumska područja jugoistočne Azije (uzročnik tzv. mankey malar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D802-6BE4-41F1-B94B-453B4921B142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CDC - 3 milijarde ljudi živi u područjima visokog rizika od de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2EF7-B2FC-4FF9-AED4-6FBCBA8C28C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9BD-FEC0-47E3-9207-ADD432A7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664-8191-46A7-A108-CB3C9342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C05-6274-47DE-8529-7CA2E420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457-BF3A-440E-AA33-C6DF3AD5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B812-8B3C-47BB-A971-2366CF53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A5A9-FCFC-44C0-8A5F-9A57ED80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2488-DC16-4DBE-8A2E-43A84D9C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EEA7-F1C1-496B-A53E-61BDBBDC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2A74-B5A5-407D-BDAC-AC740C70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BFFD-E0C7-40E0-BD3E-4BBDF267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F18E-B012-447E-88CD-2E83DF7F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523-73CB-476F-A655-B78BB492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FA79-3E08-41FB-AE89-AB9B40FB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A491-2004-4944-9927-8CA77DA2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E65B-8274-4724-87C1-66438864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1927-5654-4534-873A-7DB5F411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1076-8E63-48D1-8CF7-A7AD39B7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D32-918C-480D-AD28-F4AA539A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19E3-DD84-4326-9E00-8E365092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3C50-CD79-4EA3-8CAF-7D57B486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08F-F562-4253-A56B-36E8ACB3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2A7-635B-465B-AF1B-220C7957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844-5180-451B-A105-AEEA81E7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56AD-C06A-477A-824D-80E1FB34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AD3C-806C-4FF6-AEB1-00BBB9B101B0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CCF3-895A-4871-A7A3-E0CE123D7312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7308720" cy="23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KTORSKE BOLESTI </a:t>
            </a:r>
            <a:br>
              <a:rPr sz="4800"/>
            </a:br>
            <a:r>
              <a:rPr b="1" lang="hr-H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OMARCI </a:t>
            </a:r>
            <a:br>
              <a:rPr sz="44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42560" y="2491920"/>
            <a:ext cx="624852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Times New Roman"/>
              </a:rPr>
              <a:t>dr.sc. Tomislav Dijanić, dr. med.</a:t>
            </a:r>
            <a:br>
              <a:rPr sz="1700"/>
            </a:br>
            <a:r>
              <a:rPr b="1" lang="hr-HR" sz="1700" spc="-1" strike="noStrike">
                <a:solidFill>
                  <a:srgbClr val="000000"/>
                </a:solidFill>
                <a:latin typeface="Times New Roman"/>
              </a:rPr>
              <a:t>spec. epidemiolo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Osijek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aj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 20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7236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A  GROZNIC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144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za vreme epidemije laka - 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olacija i detekcija nukleinske kiseli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 praksi najčešće se sprovodi serološka dijagnost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ČE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pecifično lečenje ne posto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zavisi od simptoma (jednostavna per oralna nadoknada tečnosti, hospitalizacija sa intravenskom nadoknadom tečnosti i transfuzijom krvi, paracetamol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0108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12536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irus prvi put izolovan 1947. god. u majmunu u Ugandi, a sledeće godine na istom mestu (šuma Zika) detektovan u komarcima roda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i slučaj infekcije čoveka zabeležen je u Nigeriji 1952. go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olest obično traje 4-7 dana i prolazi bez teških komplikacija i smrtnih ishoda, a hospitalizacija je ret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lavni vektori su komarci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egypti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lbopict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7236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1557360"/>
            <a:ext cx="91440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o 2007. god. zabeleženo nekoliko epidemija na području tropske Afrike i jugoistočne Azi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d aprila do jula 2007. god. zabeležena prva epidemija na ostrvu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u Mikroneziji, a između 2013. i 2015. god. nekoliko epidemija na ostrvima Pacifika i francuskoj Polinezi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7236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1267920"/>
            <a:ext cx="9144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d aprila 2015. god. i pojave Zika virusa u Brazilu do 2017. god. epidemija se širi na severnu i južnu Ameriku, a obolelih je bilo i u zemljama na ostalim kontinentim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januar 2016. god. preporuka CDC-a o o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ganju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tovanja u zemlje sa zabeleženim epidemij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16. dokazani prvi uvezeni klinički slučajevi infekcije kod povratnika iz endemskih područ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7236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Č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,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K virus iz porodice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viviridae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nosi 3-12 d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 60-80% slučajeva asimptomatska infekcija (1: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 oko 20% zaraženih javlja se blaža akutna febrilna bolest s osipom, artralgijom, mialgijom, konjuktivitisom, glavoboljom te ređe retroorbitalnim bolovima i gastrointestinalnim simptom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7236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ovezanost s teškim neurološkim poremećajim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ilen-Bareov sindrom i druge neurološke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likacije kod odraslih (73 slučaja u epidemiji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francuskoj Polineziji na populaciji od 270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ljada žitelja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ngenitalni Zika sindrom (mikrocefalija i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e kongenitalne malformacije mozga) kod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tusa i odojčadi te prevremeni porođaj i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bačaj ž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0108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267920"/>
            <a:ext cx="9144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tekcija virusne RNK u kliničkim uzorcima akutno bolesnih osoba u roku od 3-5 dana od pojave simptoma (relativno kratka virem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rološka dijagnostika (akutna infekcija - detekcija IgM ili 4x porast titra IgG u parnom serumu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ČENJ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imptomatsko (primena analgetika, antipiretika, antihistaminika), vakcine n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7236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ZNICA ZAPADNOG NIL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irus u prirodi cirkuliše između ptica selica (rezervoara) i vektora komarca najčešće roda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ex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i prenosi infekciju na ljude, konje i druge sisare (krajnji domaćini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bijanje epidemija najčešće prati glavne migracione puteve p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irus proširen po Africi, Evropi, Bliskom istoku, Severnoj Americi, zapadnoj Aziji i Australi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82440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ZNICA ZAPADNOG NIL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112536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va izolacija u uzorku kod žene iz regiona Zapadnog Nila u Ugandi 1937. g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pidemije: 1957. Izrael; 1999. Nju Jork/SAD, bolest zabeležena i u Rusi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ROP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vi oboleli u Francuskoj 1962.-1963. g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oslednjih 20 godina brojni slučajevi na Mediteranu, Rumuniji i okruženju RH (Italija, Mađarska, Srbija)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82440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ZNICA ZAPADNOG NIL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irkulacija virusa od pre detektovana u populaciji ko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vi slučajevi infekcije kod ljudi zabeleženi u istočnoj Slavoniji 2012. g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Č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Zapadnog Nila,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K virus iz porodice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viviridae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OD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181440" y="1754280"/>
            <a:ext cx="9325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KTORSKE 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OSIVE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BOLEST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irusi, bakterije, rikecije, protozoe… prenose se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čoveka posredno putem vektora, odnosno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atofagnih insekata (komarci, krpelji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ve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, bu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 sl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marc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ajvažnija hematofagna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a insekata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rane se na čoveku i drugim s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ma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icama i gm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avc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72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ZNICA ZAPADNOG NIL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980640"/>
            <a:ext cx="9144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nosi 2-15 da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 70-80% slučajeva infekcija asimptomatsk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d oko 20% inficiranih blagi simptomi bolesti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</a:t>
            </a: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ni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ipu koji se povlače u roku 3-6 da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eningitis, encefalitis ili poliomijelitis - najteži oblici, razviju se kod oko 1% inficiranih sa smrtnim ishodom u 4-14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:150 zaraženih razvije teški oblik bolesti sa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rtnim ishod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82440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ZNICA ZAPADNOG NIL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196640"/>
            <a:ext cx="9144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tekcija virusne RNK (PC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rološka dokazivanja IgM antite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ČE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ečenje po potrebi simptomatsko, vakcine za sada n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7236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KUNGUNJA GROZN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olest koju prenose komarci roda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e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3. god. prva izolacija virusa u Tanganjiki u Tanzaniji iz seruma febrilne oso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04. god. epidemija se iz istočne Afrike proširila u Indiju i jugoistočnu Aziju - nekoliko miliona oboleli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anas - rasprostranjena na ostrvima Indijskog okeana (Reunion), jugoistočnoj i južnoj Aziji, tropskim područjima Amerike, Afri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0108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KUNGUNJA GROZN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1196640"/>
            <a:ext cx="9144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ROP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979. god. u Albaniji prvo pojavljivanje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grastog komarca (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es albopict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990. god. unesen polovnim gumama u Italiju i brzo se proširio po velikom delu Eur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07. god. sa širenjem ovoga komarca, izbila je epidemija (preko 200 obolelih) u severoistočnim delovima Itali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10. i 2014. god. registrovani su oboleli u Francusko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7236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KUNGUNJA GROZN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d 2004. god. tigrasti komarac odomaćio se u RH, a 2016. dokazan prvi uvezeni klinički slučaj infekcije kod povratnika iz endemskih područ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Č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kungunya virus,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K virus iz porodice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gavirid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0108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KUNGUNJA GROZN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196640"/>
            <a:ext cx="9144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nosi 2-12 d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ajčešće se prvo javlja povišena temperatura (39-40°C), zatim bolovi u zglobovima i mišićima koji mogu trajati mesecima, glavobolja, slabost, kod 50% obolelih os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ećina obolelih se oporavi bez posledica, retko se javljaju komplikacije sa smrtnim ishodo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82440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KUNGUNJA GROZN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tekcija virusne RNK (PC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rološka dokazivanja IgM antite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ČE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ma specifičnog leka ni dostupne vak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ntrola vektora komaraca za sada najefikasniji način kontrole širenja bole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010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LJUČAK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80640"/>
            <a:ext cx="9144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e - uloga komaraca kao vektora zaraznih bolesti isključivo vezana za tropska/suptropska područ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oslednjih 20-tak godina situacija se značajno izmenila - uzrok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lobalizacija, povećani obim trgovine i dalekih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ovanja, nastavak urbanizacije, klimatske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e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omene uslova u staništima uzrok su pojave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odomaćivanja novih vrsta a sa njima kao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ktorima i pojave novih  do sada „egzotičnih“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est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0108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LJUČAK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1196640"/>
            <a:ext cx="9144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 zapostavljati nadzor nad iskorenjenim bolestima, jer se one mogu ponovo vrati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aćenje i nadzor vektora, rano otkrivanje slučajeva infekcija ljudi (u skladu sa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im zdravstvenim propisima (IHR2005)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hrvatskom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onu o zaštiti stanovništva od zaraznih bolesti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bitni za sprečavanje ponovnog unosa i odomaćivanja komaraca te širenja bolesti koje no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</a:rPr>
              <a:t>H V A L A   !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J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907920"/>
            <a:ext cx="91440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19 m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o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obolelih (2017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ropska i suptropska Afrika, jugoistočna Azij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ednja i južna Amerika, južni Pacifik i istočni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ter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ko 435 000 umrlih (većinom deca &lt;5 godin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lednji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ohtoni slučaj 1954. god. (Šibeni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larično područje činilo 80% površine RH u kojem je živelo 90% populacij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anas se b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že samo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ezeni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učajev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J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1483920"/>
            <a:ext cx="91440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Č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 vrsta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odiuma (P. ovale; P. vivax; P. malariae; P. falciparum, P. knowles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 od vrste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odiuma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reće se od 9 dana (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falciparum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o 1 mesec ili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(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malariae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J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eriodična visoka temperatura, groznica, preznojavanje, žutica, hemolitička anemija, hepato/splenomegalija,  malarijski paroksiz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alaz uzročnika u razmazu periferne krv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ČENJE I ZAŠTITA OD BOLE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zavisi od vrste i osetljivosti uzročnika na l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azne vrste antimalarik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A  GROZNIC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112536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0 puta porasla učestalost u poslednjih 50 godi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imarni vektor komarac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es aegypti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u RH azijski tigrasti komarac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es albopict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odišnje 400 miliona inficiranih / 100 miliona obolelih / 22 000 umrli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ndemska bolest u jugoistočnoj Aziji, zapadnoj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i, 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niji, Australiji, južnoj Ameri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mrtnost iznosi 1-3%, ali može dostići i 5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950. jugoistočna Azija - obolelo 1,5 milion, umrlo 33 hiljade osob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0010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A  GROZNIC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ROP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rancuska 2010., 2013., 2014., 20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ortugal (Madeira) 2012. god. velika epidem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ethodno, poslednja epidemija u Evropi zabeležena je 1927. god. u Grčko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utohtona denga registrovana je prvi put u septembru 2010. god. (Pelješac - 2 obolelih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0010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A  GROZNIC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1699920"/>
            <a:ext cx="91440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Č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 različita serotipa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a denga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NK virus iz porodice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vivirid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nosi 3-10 (15) d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0108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A  GROZNIC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1196640"/>
            <a:ext cx="9144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ećina zaraženih bez simptoma ili je bolest slična grip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d ozbiljnih oblika nastupa naglo sa drhtanjem, visokom temperaturom, glavoboljom, retro-orbitalnim bolovima pri pokretima očiju, mialgijom, artralgijom, mučninom, povraćanjem, morbiliformnim osipom i crvenim oč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d manjeg broja slučajeva razvije se denga hemoragična groznica ili denga šok sindrom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07:10:00Z</dcterms:created>
  <dc:creator>korisnik</dc:creator>
  <dc:description/>
  <dc:language>en-US</dc:language>
  <cp:lastModifiedBy>Aleksandar Loncar</cp:lastModifiedBy>
  <dcterms:modified xsi:type="dcterms:W3CDTF">2019-07-14T08:44:19Z</dcterms:modified>
  <cp:revision>175</cp:revision>
  <dc:subject/>
  <dc:title>EPIDEMIOLOGIJA HCV INFEKCIJE Tomislav Dijanić, dr. med. spec.epidemiolog</dc:title>
</cp:coreProperties>
</file>