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BDAF-EDEA-4A93-9740-68C625171454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70% obolelih u 11 država –od kojih je 10 u Afric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148F-35AE-49D1-929F-76BB0DC5AC7D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P. Knowlesi – šumska područja jugoistočne Azije (uzročnik tzv. mankey malari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4297-AC89-4C65-B7D5-CED04811B1FC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CDC - 3 milijarde ljudi živi u područjima visokog rizika od de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B6D4-6E3E-43CF-AA1C-E0BAC75D88FE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117F-8B01-400E-8500-100328805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B7CB-31E7-4D45-81EC-F023108A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5B10-01E2-4F61-8047-1488938B3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BE25-6229-43B0-B9F2-F22E77525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2A788-B1BA-4DC8-9D2D-BD69E4244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08A3-44F5-487B-BA52-9D5EC8B5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17B5-40C4-428D-85A7-92A6A54B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A2D9-3D0E-4486-9764-EF35442C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DD5D-65FA-4E83-AB27-9BCC838D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B3BE-1B36-4F4E-96AA-4ED40279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48BE-E3C8-4C85-A0D6-BED28EEA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3B3A-6BC4-4A61-8F97-D4BBB308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2AB1-9C2C-452C-A8E8-14887C2D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D0CD-8AD3-4664-90A7-DAD89B06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671A-D479-4C9A-8631-0B217D91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F90A-5F7E-4C1B-9022-80336AC1F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2AF5-41D7-4104-A7F5-F2E3A7D63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6685-8CC2-4BA3-95D0-5E2B3272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336B-5354-4154-822E-92E46F83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98EC-10C5-4498-962B-ED5D9062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A295-E01B-4876-8DD3-68AA280E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F3EF-F847-4EBB-A177-867D8820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0DC4-E3CA-48A5-B617-D0758D69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4273-62CC-4C8C-A787-2A21160E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D11C-4087-425C-9101-0F97E6BE68B6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6C69-56F1-49D6-8DB7-B9FC811C63F3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7308720" cy="230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KTORSKE BOLESTI </a:t>
            </a:r>
            <a:br>
              <a:rPr sz="4800"/>
            </a:br>
            <a:r>
              <a:rPr b="1" lang="hr-H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KOMARCI </a:t>
            </a:r>
            <a:br>
              <a:rPr sz="4400"/>
            </a:b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042560" y="2491920"/>
            <a:ext cx="6248520" cy="14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Times New Roman"/>
              </a:rPr>
              <a:t>dr.sc. Tomislav Dijanić, dr. med.</a:t>
            </a:r>
            <a:br>
              <a:rPr sz="1700"/>
            </a:br>
            <a:r>
              <a:rPr b="1" lang="hr-HR" sz="1700" spc="-1" strike="noStrike">
                <a:solidFill>
                  <a:srgbClr val="000000"/>
                </a:solidFill>
                <a:latin typeface="Times New Roman"/>
              </a:rPr>
              <a:t>spec. epidemiolog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Osijek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aj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 201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17236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GA  GROZNICA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1267920"/>
            <a:ext cx="91440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JAGNOZ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za vreme epidemije laka - klinička sl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izolacija i detekcija nukleinske kiselin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u praksi najčešće se sprovodi serološka dijagnost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ČEN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pecifično lečenje ne postoj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zavisi od simptoma (jednostavna per oralna nadoknada tečnosti, hospitalizacija sa intravenskom nadoknadom tečnosti i transfuzijom krvi, paracetamol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122040"/>
            <a:ext cx="810108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KA VIRUSNA INFEKCIJA</a:t>
            </a:r>
            <a:endParaRPr b="1" lang="en-US" sz="4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0" y="1125360"/>
            <a:ext cx="91440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virus prvi put izolovan 1947. god. u majmunu u Ugandi, a sledeće godine na istom mestu (šuma Zika) detektovan u komarcima roda 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vi slučaj infekcije čoveka zabeležen je u Nigeriji 1952. go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bolest obično traje 4-7 dana i prolazi bez teških komplikacija i smrtnih ishoda, a hospitalizacija je ret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glavni vektori su komarci 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aegypti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albopict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817236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KA VIRUSNA INFEKCIJA</a:t>
            </a:r>
            <a:endParaRPr b="1" lang="en-US" sz="4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0" y="1557360"/>
            <a:ext cx="91440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o 2007. god. zabeleženo nekoliko epidemija na području tropske Afrike i jugoistočne Azi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od aprila do jula 2007. god. zabeležena prva epidemija na ostrvu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 u Mikroneziji, a između 2013. i 2015. god. nekoliko epidemija na ostrvima Pacifika i francuskoj Polinezij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817236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KA VIRUSNA INFEKCIJA</a:t>
            </a:r>
            <a:endParaRPr b="1" lang="en-US" sz="4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0" y="1267920"/>
            <a:ext cx="91440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od aprila 2015. god. i pojave Zika virusa u Brazilu do 2017. god. epidemija se širi na severnu i južnu Ameriku, a obolelih je bilo i u zemljama na ostalim kontinentim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januar 2016. god. preporuka CDC-a o od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ganju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tovanja u zemlje sa zabeleženim epidemija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VATS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016. dokazani prvi uvezeni klinički slučajevi infekcije kod povratnika iz endemskih područj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817236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KA VIRUSNA INFEKCIJA</a:t>
            </a:r>
            <a:endParaRPr b="1" lang="en-US" sz="4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0" y="1341360"/>
            <a:ext cx="91440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ZROČNI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ka virus,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NK virus iz porodice 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viviridae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KUBACI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iznosi 3-12 da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INIČKA SL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u 60-80% slučajeva asimptomatska infekcija (1: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d oko 20% zaraženih javlja se blaža akutna febrilna bolest s osipom, artralgijom, mialgijom, konjuktivitisom, glavoboljom te ređe retroorbitalnim bolovima i gastrointestinalnim simptom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122040"/>
            <a:ext cx="817236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KA VIRUSNA INFEKCIJA</a:t>
            </a:r>
            <a:endParaRPr b="1" lang="en-US" sz="4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0" y="1341360"/>
            <a:ext cx="91440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ovezanost s teškim neurološkim poremećajim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Gilen-Bareov sindrom i druge neurološke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likacije kod odraslih (73 slučaja u epidemiji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francuskoj Polineziji na populaciji od 270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ljada žitelja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kongenitalni Zika sindrom (mikrocefalija i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e kongenitalne malformacije mozga) kod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tusa i odojčadi te prevremeni porođaj i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bačaj že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122040"/>
            <a:ext cx="810108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KA VIRUSNA INFEKCIJA</a:t>
            </a:r>
            <a:endParaRPr b="1" lang="en-US" sz="4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0" y="1267920"/>
            <a:ext cx="91440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JAGNOZ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etekcija virusne RNK u kliničkim uzorcima akutno bolesnih osoba u roku od 3-5 dana od pojave simptoma (relativno kratka viremij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erološka dijagnostika (akutna infekcija - detekcija IgM ili 4x porast titra IgG u parnom serumu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ČENJ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imptomatsko (primena analgetika, antipiretika, antihistaminika), vakcine ne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817236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ZNICA ZAPADNOG NILA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0" y="1341360"/>
            <a:ext cx="91440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virus u prirodi cirkuliše između ptica selica (rezervoara) i vektora komarca najčešće roda 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lex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ji prenosi infekciju na ljude, konje i druge sisare (krajnji domaćini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izbijanje epidemija najčešće prati glavne migracione puteve pt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virus proširen po Africi, Evropi, Bliskom istoku, Severnoj Americi, zapadnoj Aziji i Australij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82440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ZNICA ZAPADNOG NILA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0" y="1125360"/>
            <a:ext cx="91440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rva izolacija u uzorku kod žene iz regiona Zapadnog Nila u Ugandi 1937. go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epidemije: 1957. Izrael; 1999. Nju Jork/SAD, bolest zabeležena i u Rusij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ROP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rvi oboleli u Francuskoj 1962.-1963. go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oslednjih 20 godina brojni slučajevi na Mediteranu, Rumuniji i okruženju RH (Italija, Mađarska, Srbija)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82440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ZNICA ZAPADNOG NILA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1341360"/>
            <a:ext cx="91440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VATS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irkulacija virusa od pre detektovana u populaciji kon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rvi slučajevi infekcije kod ljudi zabeleženi u istočnoj Slavoniji 2012. go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ZROČNI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us Zapadnog Nila,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NK virus iz porodice 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viviridae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VOD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181440" y="1754280"/>
            <a:ext cx="93250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KTORSKE 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NOSIVE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BOLEST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virusi, bakterije, rikecije, protozoe… prenose se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čoveka posredno putem vektora, odnosno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atofagnih insekata (komarci, krpelji,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ve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, bu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i sl.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komarc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najvažnija hematofagna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upa insekata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hrane se na čoveku i drugim si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ima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icama i gm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avci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817236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ZNICA ZAPADNOG NILA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0" y="980640"/>
            <a:ext cx="91440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KUBACI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iznosi 2-15 dan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INIČKA SL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u 70-80% slučajeva infekcija asimptomatsk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kod oko 20% inficiranih blagi simptomi bolesti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</a:t>
            </a:r>
            <a:r>
              <a:rPr b="1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ni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ripu koji se povlače u roku 3-6 dan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eningitis, encefalitis ili poliomijelitis - najteži oblici, razviju se kod oko 1% inficiranih sa smrtnim ishodom u 4-14%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:150 zaraženih razvije teški oblik bolesti sa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rtnim ishod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82440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ZNICA ZAPADNOG NILA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1196640"/>
            <a:ext cx="91440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JAGNOZ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etekcija virusne RNK (PC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erološka dokazivanja IgM antite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ČEN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ečenje po potrebi simptomatsko, vakcine za sada ne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122040"/>
            <a:ext cx="817236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IKUNGUNJA GROZNICA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1341360"/>
            <a:ext cx="91440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bolest koju prenose komarci roda 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des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53. god. prva izolacija virusa u Tanganjiki u Tanzaniji iz seruma febrilne osob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004. god. epidemija se iz istočne Afrike proširila u Indiju i jugoistočnu Aziju - nekoliko miliona oboleli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anas - rasprostranjena na ostrvima Indijskog okeana (Reunion), jugoistočnoj i južnoj Aziji, tropskim područjima Amerike, Afric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122040"/>
            <a:ext cx="810108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IKUNGUNJA GROZNICA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0" y="1196640"/>
            <a:ext cx="91440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ROP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979. god. u Albaniji prvo pojavljivanje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grastog komarca (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des albopictu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990. god. unesen polovnim gumama u Italiju i brzo se proširio po velikom delu Europ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007. god. sa širenjem ovoga komarca, izbila je epidemija (preko 200 obolelih) u severoistočnim delovima Itali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010. i 2014. god. registrovani su oboleli u Francusko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122040"/>
            <a:ext cx="817236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IKUNGUNJA GROZNICA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1341360"/>
            <a:ext cx="91440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VATS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od 2004. god. tigrasti komarac odomaćio se u RH, a 2016. dokazan prvi uvezeni klinički slučaj infekcije kod povratnika iz endemskih područ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ZROČNI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kungunya virus,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NK virus iz porodice 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gavirida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122040"/>
            <a:ext cx="810108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IKUNGUNJA GROZNICA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1196640"/>
            <a:ext cx="91440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KUBACI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iznosi 2-12 da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INIČKA SL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najčešće se prvo javlja povišena temperatura (39-40°C), zatim bolovi u zglobovima i mišićima koji mogu trajati mesecima, glavobolja, slabost, kod 50% obolelih osi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većina obolelih se oporavi bez posledica, retko se javljaju komplikacije sa smrtnim ishodom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122040"/>
            <a:ext cx="824400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IKUNGUNJA GROZNICA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0" y="1341360"/>
            <a:ext cx="91440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JAGNOZ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etekcija virusne RNK (PC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erološka dokazivanja IgM antite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ČEN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nema specifičnog leka ni dostupne vakc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kontrola vektora komaraca za sada najefikasniji način kontrole širenja boles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10108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KLJUČAK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0" y="980640"/>
            <a:ext cx="91440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re - uloga komaraca kao vektora zaraznih bolesti isključivo vezana za tropska/suptropska područ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oslednjih 20-tak godina situacija se značajno izmenila - uzrok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globalizacija, povećani obim trgovine i dalekih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tovanja, nastavak urbanizacije, klimatske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e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romene uslova u staništima uzrok su pojave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odomaćivanja novih vrsta a sa njima kao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ktorima i pojave novih  do sada „egzotičnih“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est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810108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KLJUČAK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0" y="1196640"/>
            <a:ext cx="91440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ne zapostavljati nadzor nad iskorenjenim bolestima, jer se one mogu ponovo vrati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raćenje i nadzor vektora, rano otkrivanje slučajeva infekcija ljudi (u skladu sa 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đunarodnim zdravstvenim propisima (IHR2005)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hrvatskom 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konu o zaštiti stanovništva od zaraznih bolesti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bitni za sprečavanje ponovnog unosa i odomaćivanja komaraca te širenja bolesti koje nos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000000"/>
                </a:solidFill>
                <a:latin typeface="Times New Roman"/>
              </a:rPr>
              <a:t>H V A L A   !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ARIJA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907920"/>
            <a:ext cx="91440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19 m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o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obolelih (2017.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ropska i suptropska Afrika, jugoistočna Azij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ednja i južna Amerika, južni Pacifik i istočni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ter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oko 435 000 umrlih (većinom deca &lt;5 godin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VATSK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lednji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tohtoni slučaj 1954. god. (Šibenik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alarično područje činilo 80% površine RH u kojem je živelo 90% populacij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anas se b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že samo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vezeni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lučajev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00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ARIJA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0" y="1483920"/>
            <a:ext cx="91440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ZROČNI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5 vrsta 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odiuma (P. ovale; P. vivax; P. malariae; P. falciparum, P. knowles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KUBACIJ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 od vrste 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odiuma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kreće se od 9 dana (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. falciparum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o 1 mesec ili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</a:t>
            </a:r>
            <a:r>
              <a:rPr b="1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(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. malariae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00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ARIJA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1341360"/>
            <a:ext cx="91440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INIČKA SL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eriodična visoka temperatura, groznica, preznojavanje, žutica, hemolitička anemija, hepato/splenomegalija,  malarijski paroksiz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JAGNOZ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nalaz uzročnika u razmazu periferne krv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ČENJE I ZAŠTITA OD BOLES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zavisi od vrste i osetljivosti uzročnika na l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azne vrste antimalarik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80010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GA  GROZNICA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1125360"/>
            <a:ext cx="91440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0 puta porasla učestalost u poslednjih 50 godin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rimarni vektor komarac 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des aegypti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u RH azijski tigrasti komarac 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des albopict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godišnje 400 miliona inficiranih / 100 miliona obolelih / 22 000 umrli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endemska bolest u jugoistočnoj Aziji, zapadnoj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rici, O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niji, Australiji, južnoj Americ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mrtnost iznosi 1-3%, ali može dostići i 5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950. jugoistočna Azija - obolelo 1,5 milion, umrlo 33 hiljade osob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122040"/>
            <a:ext cx="8001000" cy="10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GA  GROZNICA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1341360"/>
            <a:ext cx="91440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ROP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rancuska 2010., 2013., 2014., 2015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ortugal (Madeira) 2012. god. velika epidemi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rethodno, poslednja epidemija u Evropi zabeležena je 1927. god. u Grčko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VATS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utohtona denga registrovana je prvi put u septembru 2010. god. (Pelješac - 2 obolelih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122040"/>
            <a:ext cx="8001000" cy="10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GA  GROZNICA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0" y="1699920"/>
            <a:ext cx="91440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ZROČNI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4 različita serotipa 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usa denga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NK virus iz porodice </a:t>
            </a:r>
            <a:r>
              <a:rPr b="1" i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vivirida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KUBACI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iznosi 3-10 (15) da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8101080" cy="100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GA  GROZNICA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1196640"/>
            <a:ext cx="91440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INIČKA SL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većina zaraženih bez simptoma ili je bolest slična grip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kod ozbiljnih oblika nastupa naglo sa drhtanjem, visokom temperaturom, glavoboljom, retro-orbitalnim bolovima pri pokretima očiju, mialgijom, artralgijom, mučninom, povraćanjem, morbiliformnim osipom i crvenim oči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kod manjeg broja slučajeva razvije se denga hemoragična groznica ili denga šok sindrom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07:10:00Z</dcterms:created>
  <dc:creator>korisnik</dc:creator>
  <dc:description/>
  <dc:language>en-US</dc:language>
  <cp:lastModifiedBy>Aleksandar Loncar</cp:lastModifiedBy>
  <dcterms:modified xsi:type="dcterms:W3CDTF">2019-07-14T08:44:19Z</dcterms:modified>
  <cp:revision>175</cp:revision>
  <dc:subject/>
  <dc:title>EPIDEMIOLOGIJA HCV INFEKCIJE Tomislav Dijanić, dr. med. spec.epidemiolog</dc:title>
</cp:coreProperties>
</file>