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0AF-6731-4EB0-B515-70572BE5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DAD-6358-430F-9D42-0EC42FCD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E77-590D-40D6-99DB-F73902B5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05F-17D5-49BC-9C86-E242747C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796-D144-4C88-BF32-369948A2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377C-3BC7-4AB7-9184-C06DDE0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DD8-E265-45E1-AC26-002F73F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1C2-EE6D-4F7D-AE9E-A513D9F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F1F-6046-42F3-B753-69CC0F6C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A13B-55C3-4A69-A7E5-FDF3AB5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6A61-198C-468A-9327-11D7F66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176-AC01-4650-AF75-43B66CA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5AF0-ABD9-45A8-A113-18963DD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032-3442-40D4-A257-5A59CFB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DBCF-34B2-4CBD-A55F-8B2BB81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AFBB-3D2D-435C-9383-03A7AFE3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AA8D-40EB-4450-9B78-2E33EE25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56A7-53F6-4B0A-8E06-D5512987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E960-AAFE-430C-920E-2CFBBDB2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FC02-9D5F-499B-9B0F-10B308DE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FF4E-FDC2-4DA4-82D7-89AA474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4991-A749-4D07-AC7F-DDF8BF8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6F2-3A48-4242-9811-D1D72E8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7B7A-28B6-4810-B679-5982E8A8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F0E0-4F2C-442D-8B11-BAC4086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3E12-4BCB-46FF-8AC7-A991FF7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8F77-C463-4E8B-B7BD-4776827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6E38-1661-4A8A-9416-07E0DC9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1E3F-C412-4E2D-9690-3C144E11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B563-4FFB-4159-9778-F1AD48D2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6D4F-ADF8-4AAE-AFC3-111E212F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D99B-B400-41D2-AD91-7AB475A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4290-3AFD-4E40-A43D-454AC7D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4C5-D62B-4D1D-B162-EB709EC6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06A8-590D-489B-B344-570AC1F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1BA8-A387-426B-BAF2-BB6F594F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870A-569B-4B85-97A5-3444DD9F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CC2A-5DAA-4CB1-AF18-384F027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1C8F-73D6-4D8B-95EE-528BA02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4F8D9-6F90-4D80-AA5F-43308DF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374D-902D-461D-944D-3F6F9CD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BE0F-836C-4BDA-A664-A1E5662C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9E5B-5B99-4C67-A61C-1840AA8D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4C72D-351D-4518-81EC-EDB6AAF9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476-B34A-4830-9584-9D0C723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45B0-886F-44E7-9E5B-5A18DF4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B0D0-2EDC-4B85-89AC-D24F75D6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017F-742C-423D-94CE-E5642A7F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9083-BDD3-430E-9A92-2FBF469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CC1E-C849-43AB-905F-2F73FE7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3A87-2917-409A-8F3E-58866C4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E051-245D-49A1-9091-231C175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38E8-7CE7-460D-AFB4-A41B26C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7733-C902-4AAA-BDF5-85506C8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16D7-079D-4B98-93A9-7F01F620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259-8C4B-40DA-BBFA-0916B401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2DF58-3102-4437-B875-8CC594C2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06A8-9E0C-41BD-BB46-B3D8CFD4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4594-46AA-49FA-B435-74D6D0C7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C12E-FAC3-42A5-BAB0-9AB25E4E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7F315-E794-4E82-8EF2-86A766EC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6AE89-6B0F-479A-BF1C-60386F4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AC76A-F589-4125-A48C-88E9EC9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A7D9-45BB-4054-A583-EA0BAD2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CA2F-4253-452F-BD9C-B3B9222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2871-4C3A-4E9D-80DD-D50B828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D68-5127-4248-BDF6-6E50B84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B8A7-F79E-4B1C-8BDA-AFA6580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053A-F472-4769-8D46-1324A7F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66E9F-25CB-4BB6-8DF3-E8162670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47DC3-EFC6-4CDC-BA62-FC581925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C13B-C894-4E1D-805E-09029946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8124-BD47-46BC-9E00-49FC7A1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1E7F7-4B1E-4953-BD77-4633F640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3A52E-BD7E-4430-A006-92BDCB54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E3CC-3E02-4EB3-BA7B-43BFDF05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B71BB-62AD-4CB3-9308-C6E8B87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BCE-691C-4BB6-BA6B-0AA89EA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0F5A-6506-4E3A-88B4-14CAD6A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927A-9016-4881-83B7-62AA517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EEA1-F88B-4A41-A0F6-0AEB677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43B8-1E39-4773-81DA-0B48C927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1267-11D9-4416-B96B-7D455651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0E467-F982-4966-9318-A5AA2D23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39BDC-07C4-4535-824D-9024630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9794-DB12-4283-83F3-74CE5C2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E9C9-FFB7-406B-A25D-49B46C9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84C0-628D-415D-857C-EF39DEB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2CF-1DA1-48B8-9F34-B0B14915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2772-A500-4F70-B8EE-991310A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469A4-663D-4D80-B85F-6B1D303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B25C-86CA-4E27-B811-FC7A860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A2A7-B3FE-44DC-9EDF-0EF30DA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18153-9445-4FFF-967D-3A3137D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74EE-8147-4AB0-BB66-410D3B15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8A53D-B7E2-47C4-A6E8-939C0A91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31F-A3D8-43DF-8281-443FAC421450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rostoručno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rostoručno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rostoručno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Prostoručno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avni poveznik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E18-CE69-48A7-B0DE-534BC8420869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864-7869-4D70-86BB-DBAA44192B2F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A40-702C-4D07-B3F8-4D01C9E372E5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FAA7-D98A-4D0B-AA4F-376EC228D7C6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6738-0478-4127-B0B0-8EFA96E3441E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27E-136C-47CC-B113-0E0C5AE6256C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ručno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ručno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kutni trokut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Pravokutni trokut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avni poveznik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Š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Š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D04-609C-4DBC-9FA2-4F60222853BB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slov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Snježana Loci-Zvocak, dr. m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1" descr="logo-12.jpg"/>
          <p:cNvPicPr/>
          <p:nvPr/>
        </p:nvPicPr>
        <p:blipFill>
          <a:blip r:embed="rId2"/>
          <a:stretch/>
        </p:blipFill>
        <p:spPr>
          <a:xfrm>
            <a:off x="6500880" y="357120"/>
            <a:ext cx="21430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acioni testov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rus neutralizacioni test – V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neutralizacioni test redukcije plakov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NT; plaque-reduction neutralization tes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 inhibicije hemaglutin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 antitela  se pojavljuju u serumu 3-8 dana nakon početka bolesti i opstaju 30-90 dana, kod VZN i do 500 d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orostruki porast titra u parnim uzorcima seruma dodatni je laboratorijski dokaz infek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aciona antitela su specifična za serotip i opstaju u serumu mnogo godina nakon prebolele infekcije, ponekad doživot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ni test za potvrdu akutne/nedavne infekcije koristi se određivanje aviditeta IgG antite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285920" y="1714680"/>
          <a:ext cx="6786360" cy="336204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440000"/>
                <a:gridCol w="184608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log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janje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etlj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ifič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I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alizacioni test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 d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5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cija hemaglutin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s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lasični RT-PCR (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; reverse-transcriptase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ase chain rea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T-PCR u stvarnom vreme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veća osetljivost i specifi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kvantitativno određivanje broja kopij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anja mogućnost kontam. uzork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71720" y="2143080"/>
          <a:ext cx="7000560" cy="3036960"/>
        </p:xfrm>
        <a:graphic>
          <a:graphicData uri="http://schemas.openxmlformats.org/drawingml/2006/table">
            <a:tbl>
              <a:tblPr/>
              <a:tblGrid>
                <a:gridCol w="1857240"/>
                <a:gridCol w="1785960"/>
                <a:gridCol w="1727280"/>
                <a:gridCol w="1630080"/>
              </a:tblGrid>
              <a:tr h="58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tekcija vir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janje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etlj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ifič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olacija vir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7 d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8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-P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s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ktovanje antigena (ELI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s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e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ktrons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roskop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in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V/RNK : u krvi, urinu, pljuvački, semenoj tečnosti, plodnoj vodi, tkivu posteljice, tkivu moz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acija virusa: ćelijska kultura Vero – citopatski učinak u obliku vakuolizacije citoplazme, žarišne degeneracije i pikno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 – “pan-flavi” početnice, specifične početn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e reakcije; ELISA, IFA, neutralizacioni t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rštene reakcije: preboleli DEN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C, kriterijumi za lab. dijagnostiku ZIKV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ovatna infek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ZIKV IgM antitela uz epidemiološku poveznicu – kontakt s potvrđenim slučajem, boravak u području s dokazanom transmisijom virusa unutar  2 ned., pre početka simptom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potvrđena infek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sutnost ZIKV RNK u serumu ili drugim uzorcima (pljuvačka, urin, tkiva) ili ZIKV IgM antitela te ZIKV PRNT titar &gt; 20 ili ZIKV PRNT &gt; 4 puta u odnosu na titar drugih flaviviru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V: serum, plazma, mononuklearne stanice periferne krv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ćelijske linije dobijene iz komarca – ne izaziva citopatski učinak, dokazuje metodom IF pomoću serotip specifičnih monoklonskih antite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e metode – veća osetljivost 80 – 100%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N: u krvi, CSL, postmortalno dobijena tk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Vero ćelije (ćelijska kultura bubrega afričkog majmuna) i bubrega ze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– PCR metoda izbora &gt;50 kopija virusne RNK/ml, 1000 puta osetljivije od izolacije viru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a dijagnostika: ELISA, IFA, neutralizacioni testov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 antitela – od 4. do 7. dana bolesti, mogu opstati duže od godinu da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az IgM antitela u CSL- dijagnostički značajan  (200 dan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stajanje IgM antitela + niska vrednost aviditeta IgG antitela = nedavna VZN infekci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upljanje uzoraka, prevoz i skladištenje pulova komaraca na odgovarajući nač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nsport: temp. +4 do +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kladištenje: temp. +2 do -8 / 12 sa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mrzavanje -20 do -80 do analize uzora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zolovanje i identifikacija virusne nukleinske kiseline pomoću “in house” testnih protokola ili komercijalnih dijagnostičkih komple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tne ili re–emergentne 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novootkrivene, il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kod kojih se nedavno znatno povećala učestalost pojavljivanja, il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širio geografski, vektorski ili domaćinski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godina/400 emergentnih ili re – emergentnih boles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% zoonoze, koje prenose razni vekto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u grupu čine arbovirusne infekcije – klasifikovane prema prenosnicima, zglavkari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isano multidisciplinarno praćenj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aktivnosti virusa u vektorima te domaćim i divljim životinjama na određenom području je vrlo važna jer donekle omogućuje predviđanje vremena pojavljivanja bolesti kod ljudi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različitih virusa / 80 patogeno za lju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gaviridae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lphavirus (virus 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gunja…) i Rubivir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avivirida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avivirus (virus žute groznice, virus Zapadnog Nila, Usutu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, virus Zika, virus de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Pestivirus, Hepacivir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nyaviridae 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nyavirus, Phlebovirus, Nairovirus, Hantavirus,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povir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oviridae</a:t>
            </a:r>
            <a:r>
              <a:rPr b="0" i="1" lang="hr-H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reovirus, Obivirus, Rotavirus, Coltivirus…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– 75 nm, kugla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lančana (+) R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oslojna lipidna ovojnica, glikoproteinski izdanci E1, E2, E3 – za određivanje pojedinih tipova viru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zi u ćeliju endocitoz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anje virusne ćelije s opnom endozo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lobađanje kapside i genoma u citoplaz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ivanje za riboz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kacija – spajanje ranih i kasnih prote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pljenje kroz citoplazmatsku op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– 50 nm, kuglasti, obavijeni virus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lančana (+) R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 strukturna proteina: C, M,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oprotein E – adsorpcija na ćeliju, epitopi za neutralizaciju i inhibiciju hemaglutin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oproteini C i M – bez značajne uloge u patogenezi i klasifikaci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a između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virusa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usa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rađa geno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e genetske linije ZIKV (afrička i azijsk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čka – slabije virul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 protein vrlo sličan onom u neurovirulentnom virusu Zapadnog Nila, ostali proteini pokazuju sličnost s proteinima virusa deng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ostaje očuvana na 40º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aktna površinska struktura – sposobnost preživljavanja u nepovoljnoj okol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acija:70% etanol, 1% hipohlorit, temp. &gt;60º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ušen u okolini zadržava infektivnost duže od 3 d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rektne metode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kularna dijagnost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ktovanje virusnih antige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irektne meto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a dijagnost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je virusa: - kr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rebrospinalni likvor (CS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globna t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stmortalno dobijeni uzorci tkiva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di predstavljaju slučajne domaćine s kratkotrajn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emijom i niskim nivoom virusa što umanjuje uspešnost izolovanja, osim virusa žute groznice, virusa denga i čikungunja virusa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ški postupc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munoenzimni te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ISA;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-linked immunoserbent assay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indirektni imunofluorescentni te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A; </a:t>
            </a:r>
            <a:r>
              <a:rPr b="0" i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immunofluorescence assay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13:14:48Z</dcterms:created>
  <dc:creator>Snjezana</dc:creator>
  <dc:description/>
  <dc:language>en-US</dc:language>
  <cp:lastModifiedBy>Aleksandar Loncar</cp:lastModifiedBy>
  <dcterms:modified xsi:type="dcterms:W3CDTF">2019-07-14T10:33:24Z</dcterms:modified>
  <cp:revision>105</cp:revision>
  <dc:subject/>
  <dc:title>STRUKTURA , BIOLOŠKA SVOJSTVA I DIJAGNOSTIKA ZIKV I DRUGIH ARBOVIRUSNIH INFEKCIJA</dc:title>
</cp:coreProperties>
</file>