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B04-A12E-4222-A4EA-B9521BE7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F61-15B4-4288-B6DF-7F6993FE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B10-D1B8-4CEA-AB8E-B41946B0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A5C-C09E-4FB7-9B5D-CD83E2DD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7867-123B-497E-AB95-47EC8C6E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371F-B689-4B74-BC55-0B5517FC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FA0C-CB40-4C96-9A1F-5CE53183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3EBE-C3D7-4B9F-A1BE-72656327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13FE-CC7F-4325-8A5E-87D49B75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6899-558E-41A7-9A6B-D16672C7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A03B-B369-467E-ABEA-CC8EE21E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787-3A75-4D1E-B054-A1E11B1C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E768-F220-42A2-B452-0E3073EA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BEF9-FDD2-4D38-8330-05A4DA58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6B69-3852-4AC5-B232-719AA0C3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5CBC-B6A1-4D86-A4E1-3D91CEAA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6436-CF1D-4875-BFDD-A2AF1EF6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E979-8D7B-4BE7-9E8F-13A5839D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9A7DF-C67E-48F1-BBF2-53BF1CC3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07305-8C83-44EF-8D2A-40C9D576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C4B4-391D-4295-8730-D4B42F82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574A6-2AA1-4EED-8D7D-A228A8A4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1C2-5CA9-426E-99C4-D3C6419D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F74A9-D5F0-415D-9EBF-D17026EE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33CC-D0A7-45AC-979A-6FC7F314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D2B04-5C7B-44ED-B90A-2831A593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43587-D153-4A1D-BEA7-9B3CEB3B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A4814-C32F-47D0-B8ED-8A0C2222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F8D1-EA8F-47D1-B721-11A4E604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080C9-6416-4DCC-880A-8508D5ED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E5EC4-78D5-4D7A-B58D-BEE0386F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05EE8-900A-4399-8637-E6494E76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9B1F2-EC8B-44A0-BBBE-77673B56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862-6CB5-4AA4-8D2A-4FBFAC1E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98CBB-7866-4846-A549-71B90D61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EF13E-D717-4FB3-B212-042149EC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0D46F-E177-4451-90AF-E1D30017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0A1CA-A75F-4035-B534-901AF24C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72895-5F9D-43B3-8B70-8C819875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14E7F-7970-463B-9A08-A84F0066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AA6B3-97D5-4D7B-98A4-2FB637C5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9F9D5-E3EB-4F54-9DF8-514709B9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AA267-D74D-4675-AAF4-D0DC3C17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2FE80-853E-4030-9960-6DA0D84C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D6E-AAA1-4E82-87C6-593AEA91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D635D-79E0-43CC-980A-909816A7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3EAFF-5CCA-49DE-9660-D4860AF8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C5526-6E64-42B8-B0F3-7AE8FE21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0002F-8B6E-4893-AA28-701B6161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A0A92-C8D6-4960-AD6C-E591D87E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F74EF-E128-4292-A767-C7BF56FE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FBF3B-45A7-4F72-8104-CBA0BB6D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D41B7-3924-4CD4-9578-42858D1F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A648C-EB0C-4CD9-ADEC-28ECAA5D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FCC69-3564-4C74-B51B-6706151F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FDF-DFBA-4956-8C63-59227667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D953C-6B7D-486A-961F-A1826A1A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08749-8BBB-480B-ABE4-B3545F76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11C0C-B99E-486E-A34F-7249058D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1A443-EFB9-4E25-9D62-5AADEA99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4F3A3-A95E-46D9-A0E5-ADA7993A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06E54-880B-488B-A7E3-88795687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ED2F4-6867-405B-97DC-E3443176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F10F5-648E-4876-B164-A5BED5C3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94731-B75A-4D25-826C-795B94FD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66EAD-1721-4146-BF89-C2237592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8B9-E4A6-4E42-8263-7F5E07D6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96BD5-69BD-46C6-AA5A-18D93FC6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EF142-93AD-4167-AF34-78501598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C3B24-76BD-4BD4-990B-40A50BB2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41CD7-B1A6-4865-844A-7B04F56A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171D8-996A-48DC-9EA0-7FCC0343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B1C95-8FD0-47FC-8DB3-62FFF8CC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8A21C-6F17-4D4E-960D-B9F6D2CF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B9007-3E9C-4646-A555-29C01A7B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472E4-DA75-4D60-AA1E-0D55C1AB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B6A68-2651-40CC-BC13-8BB162B7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A4F-3DAE-4EF9-8B89-1FDA1E86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B48B6-B0B9-4965-9CE4-6EC94956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1D489-91E0-43FB-A136-76CAA757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D631E-51D9-431E-B1AB-9B2EE4D2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85046-DC37-49E2-BD42-8BEB8D4A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E373D-3C32-44EC-9776-FE26AC4D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6036C-A784-418D-9A0F-ABBEF045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6DF1A-BFF4-4C05-8D78-7681D0F5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68964-5F36-478D-AF27-00EC3D20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C6F8D-74E8-4A40-BDAB-66705339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1EC40-9492-4300-8B89-5B413A32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020-7241-400A-A09B-BBDBEE23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62972-C304-41C3-A10C-57F7CC36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D3BAE-4B80-4B1D-A748-A729AE97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5DD4D-6378-4F04-A839-124F99C8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83763-B4E7-428C-9ADF-5831ECA3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08BA0-B582-48BF-BD1F-F8BC87F3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56932-FC08-4B85-B4EE-82853D56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A3453-045D-4977-B908-BF654BC5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kutni troku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Pravokutni trokut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avni poveznik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0303-A139-4529-8132-2DAAC4033943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kutni troku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Prostoručno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Prostoručno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Prostoručno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Prostoručno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avni poveznik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A406-495F-4A2C-80AE-7C90A20CD8CC}" type="slidenum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kutni troku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avni poveznik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Š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Š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C72F-A235-405B-B885-2833EF1AF996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Pravokutni troku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avni poveznik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39E9-E068-4F9B-9171-176C0940C160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A83E-1B96-4470-875A-894878D9EDE4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Pravokutni troku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avni poveznik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F0BD-8815-46BB-BE72-564306AE6843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DE27-CE33-4E73-BCFD-CA9ECA90B355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rostoručno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rostoručno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Pravokutni trokut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Pravokutni trokut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avni poveznik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Š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Š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46AA-9F4A-49FA-B752-312D6B30B5F6}" type="slidenum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Naslov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Snježana Loci-Zvocak, dr. med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1" descr="logo-12.jpg"/>
          <p:cNvPicPr/>
          <p:nvPr/>
        </p:nvPicPr>
        <p:blipFill>
          <a:blip r:embed="rId2"/>
          <a:stretch/>
        </p:blipFill>
        <p:spPr>
          <a:xfrm>
            <a:off x="6500880" y="357120"/>
            <a:ext cx="21430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izacioni testovi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irus neutralizacioni test – V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neutralizacioni test redukcije plakov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NT; plaque-reduction neutralization tes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st inhibicije hemaglutina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M antitela  se pojavljuju u serumu 3-8 dana nakon početka bolesti i opstaju 30-90 dana, kod VZN i do 500 da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orostruki porast titra u parnim uzorcima seruma dodatni je laboratorijski dokaz infek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izaciona antitela su specifična za serotip i opstaju u serumu mnogo godina nakon prebolele infekcije, ponekad doživot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datni test za potvrdu akutne/nedavne infekcije koristi se određivanje aviditeta IgG antite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1285920" y="1714680"/>
          <a:ext cx="6786360" cy="3362040"/>
        </p:xfrm>
        <a:graphic>
          <a:graphicData uri="http://schemas.openxmlformats.org/drawingml/2006/table">
            <a:tbl>
              <a:tblPr/>
              <a:tblGrid>
                <a:gridCol w="1857240"/>
                <a:gridCol w="1643040"/>
                <a:gridCol w="1440000"/>
                <a:gridCol w="1846080"/>
              </a:tblGrid>
              <a:tr h="80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rolog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janje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setljiv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ecifič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I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 s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6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s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er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er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tralizacioni testo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7 d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er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05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ibicija hemaglutina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s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er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4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kularna dijagnostik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klasični RT-PCR (</a:t>
            </a:r>
            <a:r>
              <a:rPr b="0" i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l; reverse-transcriptase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merase chain reac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T-PCR u stvarnom vremen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veća osetljivost i specifično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kvantitativno određivanje broja kopij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manja mogućnost kontam. uzork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1071720" y="2143080"/>
          <a:ext cx="7000560" cy="3036960"/>
        </p:xfrm>
        <a:graphic>
          <a:graphicData uri="http://schemas.openxmlformats.org/drawingml/2006/table">
            <a:tbl>
              <a:tblPr/>
              <a:tblGrid>
                <a:gridCol w="1857240"/>
                <a:gridCol w="1785960"/>
                <a:gridCol w="1727280"/>
                <a:gridCol w="1630080"/>
              </a:tblGrid>
              <a:tr h="585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tekcija vir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janje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setljiv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ecifič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olacija vir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7 d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8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-P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s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ktovanje antigena (ELI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s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er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ktrons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kroskop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minu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s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8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V/RNK : u krvi, urinu, pljuvački, semenoj tečnosti, plodnoj vodi, tkivu posteljice, tkivu mozg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acija virusa: ćelijska kultura Vero – citopatski učinak u obliku vakuolizacije citoplazme, žarišne degeneracije i pikno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kularna dijagnostika – “pan-flavi” početnice, specifične početn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loške reakcije; ELISA, IFA, neutralizacioni te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rštene reakcije: preboleli DENV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DC, kriterijumi za lab. dijagnostiku ZIKV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ovatna infekci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ZIKV IgM antitela uz epidemiološku poveznicu – kontakt s potvrđenim slučajem, boravak u području s dokazanom transmisijom virusa unutar  2 ned., pre početka simptom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potvrđena infekci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isutnost ZIKV RNK u serumu ili drugim uzorcima (pljuvačka, urin, tkiva) ili ZIKV IgM antitela te ZIKV PRNT titar &gt; 20 ili ZIKV PRNT &gt; 4 puta u odnosu na titar drugih flavivirus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V: serum, plazma, mononuklearne stanice periferne krv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ovanje virusa: ćelijske linije dobijene iz komarca – ne izaziva citopatski učinak, dokazuje metodom IF pomoću serotip specifičnih monoklonskih antitel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kularne metode – veća osetljivost 80 – 100%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ZN: u krvi, CSL, postmortalno dobijena tkiv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ovanje virusa: Vero ćelije (ćelijska kultura bubrega afričkog majmuna) i bubrega zec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 – PCR metoda izbora &gt;50 kopija virusne RNK/ml, 1000 puta osetljivije od izolacije virus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loška dijagnostika: ELISA, IFA, neutralizacioni testov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M antitela – od 4. do 7. dana bolesti, mogu opstati duže od godinu dan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az IgM antitela u CSL- dijagnostički značajan  (200 dana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stajanje IgM antitela + niska vrednost aviditeta IgG antitela = nedavna VZN infekci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kupljanje uzoraka, prevoz i skladištenje pulova komaraca na odgovarajući nači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ransport: temp. +4 do +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kladištenje: temp. +2 do -8 / 12 sa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amrzavanje -20 do -80 do analize uzorak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zolovanje i identifikacija virusne nukleinske kiseline pomoću “in house” testnih protokola ili komercijalnih dijagnostičkih komple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tne ili re–emergentne 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o novootkrivene, il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kod kojih se nedavno znatno povećala učestalost pojavljivanja, il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širio geografski, vektorski ili domaćinski 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godina/400 emergentnih ili re – emergentnih bolest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% zoonoze, koje prenose razni vekto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u grupu čine arbovirusne infekcije – klasifikovane prema prenosnicima, zglavkarim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rdinisano multidisciplinarno praćenj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i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ola aktivnosti virusa u vektorima te domaćim i divljim životinjama na određenom području je vrlo važna jer donekle omogućuje predviđanje vremena pojavljivanja bolesti kod ljudi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različitih virusa / 80 patogeno za lju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gaviridae</a:t>
            </a:r>
            <a:r>
              <a:rPr b="0" i="1" lang="hr-H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lphavirus (virus 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ngunja…) i Rubiviru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avivirida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lavivirus (virus žute groznice, virus Zapadnog Nila, Usutu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, virus Zika, virus de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 Pestivirus, Hepaciviru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nyaviridae </a:t>
            </a:r>
            <a:r>
              <a:rPr b="0" i="1" lang="hr-H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unyavirus, Phlebovirus, Nairovirus, Hantavirus,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spoviru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oviridae</a:t>
            </a:r>
            <a:r>
              <a:rPr b="0" i="1" lang="hr-H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reovirus, Obivirus, Rotavirus, Coltivirus…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 – 75 nm, kugla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lančana (+) RN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oslojna lipidna ovojnica, glikoproteinski izdanci E1, E2, E3 – za određivanje pojedinih tipova virus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azi u ćeliju endocitoz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anje virusne ćelije s opnom endozo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lobađanje kapside i genoma u citoplazm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zivanje za riboz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ikacija – spajanje ranih i kasnih protei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pljenje kroz citoplazmatsku opn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– 50 nm, kuglasti, obavijeni virus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lančana (+) RN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 strukturna proteina: C, M, 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koprotein E – adsorpcija na ćeliju, epitopi za neutralizaciju i inhibiciju hemaglutina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koproteini C i M – bez značajne uloge u patogenezi i klasifikacij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ka između </a:t>
            </a:r>
            <a:r>
              <a:rPr b="0" i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virusa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ivirusa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građa geno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e genetske linije ZIKV (afrička i azijsk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čka – slabije virul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 protein vrlo sličan onom u neurovirulentnom virusu Zapadnog Nila, ostali proteini pokazuju sličnost s proteinima virusa deng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ostaje očuvana na 40º 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aktna površinska struktura – sposobnost preživljavanja u nepovoljnoj okoli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ktivacija:70% etanol, 1% hipohlorit, temp. &gt;60º 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ušen u okolini zadržava infektivnost duže od 3 da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rektne metode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ovanje virus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kularna dijagnostik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ktovanje virusnih antige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irektne metode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loška dijagnostik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ovanje virusa: - krv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erebrospinalni likvor (CS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globna tečno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stmortalno dobijeni uzorci tkiva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judi predstavljaju slučajne domaćine s kratkotrajno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emijom i niskim nivoom virusa što umanjuje uspešnost izolovanja, osim virusa žute groznice, virusa denga i čikungunja virusa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loški postupci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imunoenzimni te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LISA; </a:t>
            </a:r>
            <a:r>
              <a:rPr b="0" i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-linked immunoserbent assay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indirektni imunofluorescentni te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A; </a:t>
            </a:r>
            <a:r>
              <a:rPr b="0" i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immunofluorescence assay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13:14:48Z</dcterms:created>
  <dc:creator>Snjezana</dc:creator>
  <dc:description/>
  <dc:language>en-US</dc:language>
  <cp:lastModifiedBy>Aleksandar Loncar</cp:lastModifiedBy>
  <dcterms:modified xsi:type="dcterms:W3CDTF">2019-07-14T10:33:24Z</dcterms:modified>
  <cp:revision>105</cp:revision>
  <dc:subject/>
  <dc:title>STRUKTURA , BIOLOŠKA SVOJSTVA I DIJAGNOSTIKA ZIKV I DRUGIH ARBOVIRUSNIH INFEKCIJA</dc:title>
</cp:coreProperties>
</file>